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ACB1-2E36-420B-B234-BE1591EA853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 u="sng">
                <a:solidFill>
                  <a:srgbClr val="ff0000"/>
                </a:solidFill>
                <a:uFillTx/>
                <a:latin typeface="Arial Unicode MS"/>
              </a:rPr>
              <a:t>generateKey</a:t>
            </a:r>
            <a:r>
              <a:rPr b="1" lang="fr-FR" sz="1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ette méthode doit générer une clé qui décrit l'état courrant du canal.</a:t>
            </a:r>
            <a:br>
              <a:rPr sz="1000"/>
            </a:b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lle est appelé a chaque affichage du c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Elle renvoie un objet ChannelCacheKey qui peut être généré comme suit 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Times New Roman"/>
              </a:rPr>
              <a:t>Porté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i vous avez deux fois le même canal dans votre environment (donc 2 instances) chaque instance utilisera un cache différent même si les clés sont les mêm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Unicode MS"/>
              </a:rPr>
              <a:t>k.setKeyScope(ChannelCacheKey.INSTANCE_KEY_SCOP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Systè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Le cache est partagé par toutes les instances d'un même canal pour une même clé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Unicode MS"/>
              </a:rPr>
              <a:t>k.setKeyScope(ChannelCacheKey.SYSTEM_KEY_SCOP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Times New Roman"/>
              </a:rPr>
              <a:t>Validit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On peut utiliser un objet afin de tester la validiter du cach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Lors de la création de la clé on la lie a un objet. Lors du test de validité du cache on pourra accéder à cette objet. (Exemple : on stocke le timestamp lors de la création de la clé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 Unicode MS"/>
              </a:rPr>
              <a:t>k.setKeyValidity(new Long(System.currentTimeMillis()));</a:t>
            </a: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 u="sng">
                <a:solidFill>
                  <a:srgbClr val="000000"/>
                </a:solidFill>
                <a:uFillTx/>
                <a:latin typeface="Times New Roman"/>
              </a:rPr>
              <a:t>isCacheVal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 elle renvoie TRUE on ne rafraichit pas le cache dans le cas contraire (FALSE) on relance tous le traitement du ca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ette méthode un objet. Cet objet est celui qi a été stocké lors de l'opération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setKeyValid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A633-65FD-40FD-A7E7-B18251DE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1469-9D7B-4CFB-BBAD-AE60930E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F2E-9785-47F4-B485-F42D373ED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C05E-6E0E-4D06-BF35-7DE0DBDB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D0C-3AB7-4939-9F2F-FE282C0B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10F9-87C8-48BD-A1F4-1D1576A88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5BA7-ED77-4148-9855-67997EF6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958A-0C16-4CF0-8935-E5E6469A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84F-CDF1-4C47-9D5D-9C2A51F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CD5-F9C4-4EBD-A01C-46F7F50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BFB-81A8-49D1-8390-C9F0605F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2870-E338-4740-BB8A-C272529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CF1C-06C0-43EC-9363-F4636663C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Developpement_7_Le_MAG.pp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ode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4360" y="1700280"/>
            <a:ext cx="7920000" cy="39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émentation de l'interface ICha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Récupération de paramè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 d'une feuille SSL permettant un rendu différent suivant le navig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assage de paramètres aux feuilles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estion d'un évènement du por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Gestion d'un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539640" y="1268280"/>
            <a:ext cx="8064720" cy="53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éthode generate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Constituée d’une chaîne de caractères</a:t>
            </a:r>
            <a:br>
              <a:rPr sz="2400"/>
            </a:br>
            <a:br>
              <a:rPr sz="24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hannelCacheKey k  = </a:t>
            </a:r>
            <a:r>
              <a:rPr b="1" lang="fr-FR" sz="2000" spc="-1" strike="noStrike">
                <a:solidFill>
                  <a:srgbClr val="ff0066"/>
                </a:solidFill>
                <a:latin typeface="Courier New"/>
              </a:rPr>
              <a:t>new ChannelCacheKey(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tringBuffer sbKey = new StringBuffer(1024);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bKey.append("org.esupportail.portal.channels.CCacheable.CCacheable : "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sbKey.append("userId:").append(staticData.getPerson().getID()).append(", "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k.</a:t>
            </a:r>
            <a:r>
              <a:rPr b="1" lang="fr-FR" sz="2000" spc="-1" strike="noStrike">
                <a:solidFill>
                  <a:srgbClr val="ff0066"/>
                </a:solidFill>
                <a:latin typeface="Courier New"/>
              </a:rPr>
              <a:t>setKe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sbKey.toString())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k.</a:t>
            </a:r>
            <a:r>
              <a:rPr b="1" lang="fr-FR" sz="2000" spc="-1" strike="noStrike">
                <a:solidFill>
                  <a:srgbClr val="ff0066"/>
                </a:solidFill>
                <a:latin typeface="Courier New"/>
              </a:rPr>
              <a:t>setKeyValidit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(new Long(System.currentTimeMillis(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Por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Valid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Gestion d'un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395280" y="1197000"/>
            <a:ext cx="8317080" cy="50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éthode isCacheValid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public boolean isCacheValid(Object </a:t>
            </a:r>
            <a:r>
              <a:rPr b="1" lang="fr-FR" sz="2000" spc="-1" strike="noStrike">
                <a:solidFill>
                  <a:srgbClr val="ff0066"/>
                </a:solidFill>
                <a:latin typeface="Courier New"/>
              </a:rPr>
              <a:t>validity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boolean cacheValid = false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(validity instanceof Long) {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ong oldtime = (Long) validity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// Si validity à moins de 60 secondes le cache est valide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if (System.currentTimeMillis() - oldtime.longValue() &lt; 60 * 100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cacheValid = true;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 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5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Récupération d'attrib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24000" y="1268280"/>
            <a:ext cx="860580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écupération de l'objet I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ation de l'objet ChannelStaticData static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Courier New"/>
              </a:rPr>
              <a:t>IPerson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 userConnect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Get the person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userConnect = staticData.getPerson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écupération du lo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Utilisation de l'objet I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String login =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// Get the login of the 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login = (String) userConnect.</a:t>
            </a:r>
            <a:r>
              <a:rPr b="1" lang="en-GB" sz="1800" spc="-1" strike="noStrike">
                <a:solidFill>
                  <a:srgbClr val="ff0066"/>
                </a:solidFill>
                <a:latin typeface="Courier New"/>
              </a:rPr>
              <a:t>getAttribut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GB" sz="1800" spc="-1" strike="noStrike">
                <a:solidFill>
                  <a:srgbClr val="9966ff"/>
                </a:solidFill>
                <a:latin typeface="Courier New"/>
              </a:rPr>
              <a:t>IPerson.USERNAME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360960" y="3573360"/>
            <a:ext cx="4857840" cy="2929680"/>
            <a:chOff x="3360960" y="3573360"/>
            <a:chExt cx="4857840" cy="2929680"/>
          </a:xfrm>
        </p:grpSpPr>
        <p:grpSp>
          <p:nvGrpSpPr>
            <p:cNvPr id="210" name=""/>
            <p:cNvGrpSpPr/>
            <p:nvPr/>
          </p:nvGrpSpPr>
          <p:grpSpPr>
            <a:xfrm>
              <a:off x="4671720" y="3573360"/>
              <a:ext cx="3547080" cy="1738440"/>
              <a:chOff x="4671720" y="3573360"/>
              <a:chExt cx="3547080" cy="1738440"/>
            </a:xfrm>
          </p:grpSpPr>
          <p:sp>
            <p:nvSpPr>
              <p:cNvPr id="211" name=""/>
              <p:cNvSpPr/>
              <p:nvPr/>
            </p:nvSpPr>
            <p:spPr>
              <a:xfrm>
                <a:off x="4671720" y="3573360"/>
                <a:ext cx="354708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66"/>
                    </a:solidFill>
                    <a:latin typeface="Tahoma"/>
                  </a:rPr>
                  <a:t>Méthode permettant de récupér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0066"/>
                    </a:solidFill>
                    <a:latin typeface="Tahoma"/>
                  </a:rPr>
                  <a:t>un attrib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700520" y="4030560"/>
                <a:ext cx="1092240" cy="1281240"/>
              </a:xfrm>
              <a:prstGeom prst="line">
                <a:avLst/>
              </a:prstGeom>
              <a:ln w="936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360960" y="5548320"/>
              <a:ext cx="4342680" cy="954720"/>
              <a:chOff x="3360960" y="5548320"/>
              <a:chExt cx="4342680" cy="954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360960" y="6040440"/>
                <a:ext cx="4342680" cy="46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9966ff"/>
                    </a:solidFill>
                    <a:latin typeface="Tahoma"/>
                  </a:rPr>
                  <a:t>Constante qui contient le nom de l'attrib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5000"/>
                  </a:lnSpc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9966ff"/>
                    </a:solidFill>
                    <a:latin typeface="Tahoma"/>
                  </a:rPr>
                  <a:t>pour le nom d'utilisateu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935320" y="5548320"/>
                <a:ext cx="423360" cy="417600"/>
              </a:xfrm>
              <a:prstGeom prst="line">
                <a:avLst/>
              </a:prstGeom>
              <a:ln w="9360">
                <a:solidFill>
                  <a:srgbClr val="99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Utilisation de la librairie 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8642160" cy="48610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arsing d'un fichier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468360" y="1125360"/>
            <a:ext cx="5529240" cy="5543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réation dynamique d'ob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5352840" cy="5362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réation dynamique d'ob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324000" y="1341360"/>
            <a:ext cx="3495600" cy="48387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réation dynamique d'ob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24000" y="1484280"/>
            <a:ext cx="7162560" cy="48672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réation dynamique d'obj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250920" y="1125360"/>
            <a:ext cx="5667120" cy="55724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ode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979640" y="1557360"/>
            <a:ext cx="5292720" cy="4514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40360" y="1413000"/>
            <a:ext cx="1800000" cy="5032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0560" y="4149720"/>
            <a:ext cx="2952720" cy="136692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35280" y="5300640"/>
            <a:ext cx="5400720" cy="792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1773360"/>
            <a:ext cx="4032360" cy="93492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ode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050920" y="1197000"/>
            <a:ext cx="5200920" cy="51800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79640" y="2357280"/>
            <a:ext cx="5327640" cy="10810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3078000"/>
            <a:ext cx="5256360" cy="331164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Code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63640" y="1413000"/>
            <a:ext cx="6602400" cy="5197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47640" y="2349360"/>
            <a:ext cx="3961080" cy="93672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20720" y="3141720"/>
            <a:ext cx="6696360" cy="151128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4941720"/>
            <a:ext cx="6624720" cy="576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47640" y="5373720"/>
            <a:ext cx="6985080" cy="576360"/>
          </a:xfrm>
          <a:prstGeom prst="ellipse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euilles de style 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3003480" cy="4464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euilles de style 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1187280" y="1773360"/>
            <a:ext cx="6985080" cy="4476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euilles de style 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187280" y="1197000"/>
            <a:ext cx="6985080" cy="52750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Organisation des fichi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rcRect l="30172" t="31310" r="5758" b="7989"/>
          <a:stretch/>
        </p:blipFill>
        <p:spPr>
          <a:xfrm>
            <a:off x="2050920" y="3789360"/>
            <a:ext cx="4896000" cy="2232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2411280" y="4725720"/>
            <a:ext cx="6554880" cy="1297800"/>
            <a:chOff x="2411280" y="4725720"/>
            <a:chExt cx="6554880" cy="1297800"/>
          </a:xfrm>
        </p:grpSpPr>
        <p:sp>
          <p:nvSpPr>
            <p:cNvPr id="130" name=""/>
            <p:cNvSpPr/>
            <p:nvPr/>
          </p:nvSpPr>
          <p:spPr>
            <a:xfrm>
              <a:off x="7093080" y="5014800"/>
              <a:ext cx="1873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Fichiers utilisés par a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6516720" y="4725720"/>
              <a:ext cx="1440" cy="4316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11280" y="5157720"/>
              <a:ext cx="4681800" cy="230400"/>
            </a:xfrm>
            <a:custGeom>
              <a:avLst/>
              <a:gdLst/>
              <a:ahLst/>
              <a:rect l="l" t="t" r="r" b="b"/>
              <a:pathLst>
                <a:path w="3041" h="145">
                  <a:moveTo>
                    <a:pt x="3041" y="9"/>
                  </a:moveTo>
                  <a:lnTo>
                    <a:pt x="0" y="0"/>
                  </a:lnTo>
                  <a:lnTo>
                    <a:pt x="2" y="145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24000" y="4654440"/>
            <a:ext cx="2087280" cy="703800"/>
            <a:chOff x="324000" y="4654440"/>
            <a:chExt cx="2087280" cy="703800"/>
          </a:xfrm>
        </p:grpSpPr>
        <p:sp>
          <p:nvSpPr>
            <p:cNvPr id="134" name=""/>
            <p:cNvSpPr/>
            <p:nvPr/>
          </p:nvSpPr>
          <p:spPr>
            <a:xfrm>
              <a:off x="324000" y="4654440"/>
              <a:ext cx="180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fichiers sour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1690560" y="4725720"/>
              <a:ext cx="720720" cy="1429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395280" y="4656240"/>
            <a:ext cx="3600360" cy="1942200"/>
            <a:chOff x="395280" y="4656240"/>
            <a:chExt cx="3600360" cy="1942200"/>
          </a:xfrm>
        </p:grpSpPr>
        <p:sp>
          <p:nvSpPr>
            <p:cNvPr id="137" name=""/>
            <p:cNvSpPr/>
            <p:nvPr/>
          </p:nvSpPr>
          <p:spPr>
            <a:xfrm>
              <a:off x="395280" y="5589720"/>
              <a:ext cx="172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images et les feuilles de styl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19280" y="4656240"/>
              <a:ext cx="2376360" cy="934920"/>
            </a:xfrm>
            <a:custGeom>
              <a:avLst/>
              <a:gdLst/>
              <a:ahLst/>
              <a:rect l="l" t="t" r="r" b="b"/>
              <a:pathLst>
                <a:path w="1497" h="589">
                  <a:moveTo>
                    <a:pt x="0" y="589"/>
                  </a:moveTo>
                  <a:lnTo>
                    <a:pt x="163" y="231"/>
                  </a:lnTo>
                  <a:lnTo>
                    <a:pt x="1494" y="239"/>
                  </a:lnTo>
                  <a:lnTo>
                    <a:pt x="1497" y="0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4781520" y="4005360"/>
            <a:ext cx="4111560" cy="703800"/>
            <a:chOff x="4781520" y="4005360"/>
            <a:chExt cx="4111560" cy="703800"/>
          </a:xfrm>
        </p:grpSpPr>
        <p:sp>
          <p:nvSpPr>
            <p:cNvPr id="140" name=""/>
            <p:cNvSpPr/>
            <p:nvPr/>
          </p:nvSpPr>
          <p:spPr>
            <a:xfrm>
              <a:off x="7093080" y="4005360"/>
              <a:ext cx="180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Fichiers de projet Eclip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46600" y="4356000"/>
              <a:ext cx="5040" cy="298440"/>
            </a:xfrm>
            <a:custGeom>
              <a:avLst/>
              <a:gdLst/>
              <a:ahLst/>
              <a:rect l="l" t="t" r="r" b="b"/>
              <a:pathLst>
                <a:path w="3" h="188">
                  <a:moveTo>
                    <a:pt x="0" y="0"/>
                  </a:moveTo>
                  <a:lnTo>
                    <a:pt x="3" y="188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81520" y="4365720"/>
              <a:ext cx="2238480" cy="288720"/>
            </a:xfrm>
            <a:custGeom>
              <a:avLst/>
              <a:gdLst/>
              <a:ahLst/>
              <a:rect l="l" t="t" r="r" b="b"/>
              <a:pathLst>
                <a:path w="1410" h="182">
                  <a:moveTo>
                    <a:pt x="1410" y="0"/>
                  </a:moveTo>
                  <a:lnTo>
                    <a:pt x="0" y="1"/>
                  </a:lnTo>
                  <a:lnTo>
                    <a:pt x="4" y="182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916360" y="5444640"/>
            <a:ext cx="3527280" cy="1281960"/>
            <a:chOff x="2916360" y="5444640"/>
            <a:chExt cx="3527280" cy="1281960"/>
          </a:xfrm>
        </p:grpSpPr>
        <p:sp>
          <p:nvSpPr>
            <p:cNvPr id="144" name=""/>
            <p:cNvSpPr/>
            <p:nvPr/>
          </p:nvSpPr>
          <p:spPr>
            <a:xfrm>
              <a:off x="2916360" y="6022800"/>
              <a:ext cx="2954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Fichiers de description du ca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201480" y="5444640"/>
              <a:ext cx="180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788000" y="5446440"/>
              <a:ext cx="0" cy="3603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3995640" y="5446800"/>
              <a:ext cx="0" cy="358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651640" y="5446800"/>
              <a:ext cx="1440" cy="358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443640" y="5446800"/>
              <a:ext cx="0" cy="35856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03640" y="5805360"/>
              <a:ext cx="3240000" cy="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43280" y="5805360"/>
              <a:ext cx="0" cy="289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372360" y="2924280"/>
            <a:ext cx="2771640" cy="1009440"/>
            <a:chOff x="6372360" y="2924280"/>
            <a:chExt cx="2771640" cy="1009440"/>
          </a:xfrm>
        </p:grpSpPr>
        <p:sp>
          <p:nvSpPr>
            <p:cNvPr id="153" name=""/>
            <p:cNvSpPr/>
            <p:nvPr/>
          </p:nvSpPr>
          <p:spPr>
            <a:xfrm>
              <a:off x="6372360" y="2924280"/>
              <a:ext cx="2771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fichiers de configuration (+DT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443640" y="3645000"/>
              <a:ext cx="216000" cy="288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292720" y="2349360"/>
            <a:ext cx="3600360" cy="1584360"/>
            <a:chOff x="5292720" y="2349360"/>
            <a:chExt cx="3600360" cy="1584360"/>
          </a:xfrm>
        </p:grpSpPr>
        <p:sp>
          <p:nvSpPr>
            <p:cNvPr id="156" name=""/>
            <p:cNvSpPr/>
            <p:nvPr/>
          </p:nvSpPr>
          <p:spPr>
            <a:xfrm>
              <a:off x="5292720" y="2349360"/>
              <a:ext cx="3600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ibrairies spécifiques au ca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5651280" y="2708280"/>
              <a:ext cx="433080" cy="122544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4716360" y="1557360"/>
            <a:ext cx="3600720" cy="2376360"/>
            <a:chOff x="4716360" y="1557360"/>
            <a:chExt cx="3600720" cy="2376360"/>
          </a:xfrm>
        </p:grpSpPr>
        <p:sp>
          <p:nvSpPr>
            <p:cNvPr id="159" name=""/>
            <p:cNvSpPr/>
            <p:nvPr/>
          </p:nvSpPr>
          <p:spPr>
            <a:xfrm>
              <a:off x="4716360" y="1557360"/>
              <a:ext cx="360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documentations et API générées par javado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787640" y="2276640"/>
              <a:ext cx="360360" cy="165708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95280" y="3933720"/>
            <a:ext cx="2808360" cy="1008720"/>
            <a:chOff x="395280" y="3933720"/>
            <a:chExt cx="2808360" cy="1008720"/>
          </a:xfrm>
        </p:grpSpPr>
        <p:sp>
          <p:nvSpPr>
            <p:cNvPr id="162" name=""/>
            <p:cNvSpPr/>
            <p:nvPr/>
          </p:nvSpPr>
          <p:spPr>
            <a:xfrm>
              <a:off x="395280" y="3933720"/>
              <a:ext cx="144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fichiers de tes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7640" y="4437000"/>
              <a:ext cx="1656000" cy="216000"/>
            </a:xfrm>
            <a:custGeom>
              <a:avLst/>
              <a:gdLst/>
              <a:ahLst/>
              <a:rect l="l" t="t" r="r" b="b"/>
              <a:pathLst>
                <a:path w="1225" h="137">
                  <a:moveTo>
                    <a:pt x="0" y="1"/>
                  </a:moveTo>
                  <a:lnTo>
                    <a:pt x="1223" y="0"/>
                  </a:lnTo>
                  <a:lnTo>
                    <a:pt x="1225" y="137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24000" y="2997360"/>
            <a:ext cx="2808000" cy="936360"/>
            <a:chOff x="324000" y="2997360"/>
            <a:chExt cx="2808000" cy="936360"/>
          </a:xfrm>
        </p:grpSpPr>
        <p:sp>
          <p:nvSpPr>
            <p:cNvPr id="165" name=""/>
            <p:cNvSpPr/>
            <p:nvPr/>
          </p:nvSpPr>
          <p:spPr>
            <a:xfrm>
              <a:off x="324000" y="2997360"/>
              <a:ext cx="280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fichiers .class créés à la compi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40000" y="3429000"/>
              <a:ext cx="71280" cy="50472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11280" y="2205000"/>
            <a:ext cx="2808360" cy="1728720"/>
            <a:chOff x="611280" y="2205000"/>
            <a:chExt cx="2808360" cy="1728720"/>
          </a:xfrm>
        </p:grpSpPr>
        <p:sp>
          <p:nvSpPr>
            <p:cNvPr id="168" name=""/>
            <p:cNvSpPr/>
            <p:nvPr/>
          </p:nvSpPr>
          <p:spPr>
            <a:xfrm>
              <a:off x="611280" y="2205000"/>
              <a:ext cx="28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Les fichiers relatif à la base de donné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43280" y="2706840"/>
              <a:ext cx="433440" cy="1226880"/>
            </a:xfrm>
            <a:custGeom>
              <a:avLst/>
              <a:gdLst/>
              <a:ahLst/>
              <a:rect l="l" t="t" r="r" b="b"/>
              <a:pathLst>
                <a:path w="273" h="773">
                  <a:moveTo>
                    <a:pt x="0" y="1"/>
                  </a:moveTo>
                  <a:lnTo>
                    <a:pt x="264" y="0"/>
                  </a:lnTo>
                  <a:lnTo>
                    <a:pt x="273" y="773"/>
                  </a:lnTo>
                </a:path>
              </a:pathLst>
            </a:custGeom>
            <a:noFill/>
            <a:ln w="936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1547640" y="1413000"/>
            <a:ext cx="2808360" cy="2447640"/>
            <a:chOff x="1547640" y="1413000"/>
            <a:chExt cx="2808360" cy="2447640"/>
          </a:xfrm>
        </p:grpSpPr>
        <p:sp>
          <p:nvSpPr>
            <p:cNvPr id="171" name=""/>
            <p:cNvSpPr/>
            <p:nvPr/>
          </p:nvSpPr>
          <p:spPr>
            <a:xfrm>
              <a:off x="1547640" y="1413000"/>
              <a:ext cx="2808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66"/>
                  </a:solidFill>
                  <a:latin typeface="Tahoma"/>
                </a:rPr>
                <a:t>Distribution du canal *.j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851280" y="1844640"/>
              <a:ext cx="144360" cy="2016000"/>
            </a:xfrm>
            <a:prstGeom prst="line">
              <a:avLst/>
            </a:prstGeom>
            <a:ln w="936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Hello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Gestion d'un 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CCach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Lo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GetTi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Dige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95280" y="1197000"/>
            <a:ext cx="83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sation d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0" lang="fr-FR" sz="2400" spc="-1" strike="noStrike">
                <a:solidFill>
                  <a:srgbClr val="ff0066"/>
                </a:solidFill>
                <a:latin typeface="Courier New"/>
              </a:rPr>
              <a:t>org.jasig.portal.ChannelCacheKey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import </a:t>
            </a:r>
            <a:r>
              <a:rPr b="0" lang="fr-FR" sz="2400" spc="-1" strike="noStrike">
                <a:solidFill>
                  <a:srgbClr val="ff0066"/>
                </a:solidFill>
                <a:latin typeface="Courier New"/>
              </a:rPr>
              <a:t>org.jasig.portal.ICacheable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Implémentati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ublic class CCacheable  implements IChannel,</a:t>
            </a:r>
            <a:r>
              <a:rPr b="0" lang="fr-FR" sz="2400" spc="-1" strike="noStrike">
                <a:solidFill>
                  <a:srgbClr val="ff0066"/>
                </a:solidFill>
                <a:latin typeface="Courier New"/>
              </a:rPr>
              <a:t>Icache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Méthodes à surchar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ublic ChannelCacheKey </a:t>
            </a:r>
            <a:r>
              <a:rPr b="0" lang="fr-FR" sz="2400" spc="-1" strike="noStrike">
                <a:solidFill>
                  <a:srgbClr val="ff0066"/>
                </a:solidFill>
                <a:latin typeface="Courier New"/>
              </a:rPr>
              <a:t>generateKey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énère une clé qui va identifier le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public boolean</a:t>
            </a:r>
            <a:r>
              <a:rPr b="0" lang="fr-FR" sz="2400" spc="-1" strike="noStrike">
                <a:solidFill>
                  <a:srgbClr val="ff0066"/>
                </a:solidFill>
                <a:latin typeface="Courier New"/>
              </a:rPr>
              <a:t> isCacheValid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</a:rPr>
              <a:t> (Object validity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it si le cache est encore valide ou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Quelques exem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2:24:58Z</dcterms:modified>
  <cp:revision>33</cp:revision>
  <dc:subject/>
  <dc:title>PowerPoint Presentation</dc:title>
</cp:coreProperties>
</file>