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ECE6-943C-466A-8C72-3B2DB24086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fication interne uPor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ertificats auto-sign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fiance bilaté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mplication si utilisation d'une ferme de serv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 certificats serveurs périment tous les ans </a:t>
            </a: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maintenance compliqué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tilisation d'une I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serveur fait confiance à l'autorité rac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ication (même configuration sur chaque pos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 certificat d'autorité racine périme tous les 10 ou 15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 CRU propose une politique de certification pour les univers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s CA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utes les applications sécurisées doivent implémenter un mécanisme d'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application a connaissance du mot de passe de l'utilis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'utilisateur s'authentifie un nombre impressionnant de fois par j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application doit être sécurisée (HTT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c CA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seule application a la charge d'authentifier les utilis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que application sécurisée délègue au serveur CAS l'authentification des utilis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ul le serveur CAS a connaissance des mots des pa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ul le serveur CAS doit être sécurisé (HTT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fication d'un utilisateur lors de sa première connexion au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irection en HTTPS vers le serveur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oi du formulaire d'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thentification d'un utilisateur lors de sa première connexion au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voi du couple identifiant / mot de passe au serveur CAS (toujours en HTT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irection vers le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Écriture d'un cookie opaque dans le navigateur (Ticket Granting Credent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voi d'un ticket à durée de vie brève jouable une seule fois (Service Tick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lidation auprès du serveur CAS du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voi au portail de l'identifiant de l'utilis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 servie au navigateur de l'utilis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thentification d'un utilisateur déjà authentifié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direction en HTTPS auprès du serveur CAS qui lit le cookie T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énération d'un nouveau ST qui est transmis au web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lidation du ST auprès du serveur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 servie au navig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noter toutes les étapes sont transparentes pour l'utilisateur qui n'a rien vu de cette chaîne de redir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onctionnement en mode 'Mandataire' ou 'Proxy' – Accès au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'utilisateur s'est authentifié auprès du serveur CAS qui lui a donné un PGT ainsi qu'un 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alidation du ST auprès du serveur CAS qui retourne l'identifiant de l'utilisateur et écrit un PGT (Proxy Granting Ticket) sous la forme d'un cookie opaque en HTT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ge servie au navig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nctionnement en mode 'Mandataire' ou 'Proxy' – Accès à une application qui nécessite une authentification au travers du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oi du ST au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cupération d'un PT (Proxy Ticket) auprès du serveur CAS sur présentation du P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oi du PT à l'application 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idation du PT par l'application tiers auprès du serveur CAS qui indique en retour l'identifiant de l'utilis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nées de l'application tiers servies au 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servie au navigateur de l'utilis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llation d'un serveur 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ème de la conf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'aide d'un navigateur Web, un utilisateur accède à un serveur HTT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le navigateur ne reconnaît pas le certificat de celui-ci comme digne de confiance, il affiche un avertiss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'utilisateur a alors la possibilité de continuer de naviguer (de faire confiance) et même d'installer le certificat dans le magasin du navigateur de façon à ne plus être averti la fois suiva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bonne procédure consisterait à récupérer le certificat d'une autre façon et de l'ajouter au magasin avant d'accéder au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e application Java accède maintenant à un contenu sur un serveur HTT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machine virtuelle intercepte le certificat et le compare à ceux dignes de confiance stockés dans son mag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le certificat n'est pas digne de confiance, il est rejeté et la connexion écho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seule solution consiste à ajouter manuellement le certificat au magasin de la JV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866F-4ABE-48F5-B1C3-EED6648C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F625-D98F-4A71-9FD4-83AE1BFA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3565-3336-4187-A8B9-842AE707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1257-9ADD-49AE-8E0B-0FF7B69D8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29E2-6E65-4421-B1FB-0243FC03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7835-EBE4-493E-A71E-4172F09D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4840-DD78-437D-900C-E28A2C61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F7E9-1A47-4323-8AEF-D1B10583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C21-8D68-458D-969B-3B15D7A1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662E-9E53-4CB9-A97F-E3F6578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C0F-C37C-48F9-AD99-CCEA9830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E46-FF4B-46C4-9432-14CE4CA2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C0E-4F19-448E-90F4-10628AB77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dministration_5_Gestion_des_groupes.ppt" TargetMode="External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hyperlink" Target="http://esup-casgeneric.sourceforge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Inter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197000"/>
            <a:ext cx="8353440" cy="54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Authentification de base proposée par u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'identifiant et le mot de passe sont stockés dans la base de données interne du por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ors de la phase d'authentification, ils transitent en clair sur le réseau à moins que le portail ne fonctionne en HTT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Le mot de passe est stocké sous la forme d'un hachage MD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réation d'un utilisateur, modification d'un mot de passe exista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Tahoma"/>
              </a:rPr>
              <a:t>ant md5passwd –Dusername=t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 u="sng">
                <a:solidFill>
                  <a:srgbClr val="ff33cc"/>
                </a:solidFill>
                <a:uFillTx/>
                <a:latin typeface="Tahoma"/>
              </a:rPr>
              <a:t>A utiliser surtout pour changer le mot de passe des comptes par défaut (admin, de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971640" y="1413000"/>
            <a:ext cx="1817640" cy="1931760"/>
            <a:chOff x="971640" y="1413000"/>
            <a:chExt cx="1817640" cy="1931760"/>
          </a:xfrm>
        </p:grpSpPr>
        <p:grpSp>
          <p:nvGrpSpPr>
            <p:cNvPr id="335" name=""/>
            <p:cNvGrpSpPr/>
            <p:nvPr/>
          </p:nvGrpSpPr>
          <p:grpSpPr>
            <a:xfrm>
              <a:off x="1332000" y="1413000"/>
              <a:ext cx="1457280" cy="1039680"/>
              <a:chOff x="1332000" y="1413000"/>
              <a:chExt cx="1457280" cy="1039680"/>
            </a:xfrm>
          </p:grpSpPr>
          <p:pic>
            <p:nvPicPr>
              <p:cNvPr id="33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2000" y="1413000"/>
                <a:ext cx="85860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84360" y="1413000"/>
                <a:ext cx="30492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8" name=""/>
            <p:cNvSpPr/>
            <p:nvPr/>
          </p:nvSpPr>
          <p:spPr>
            <a:xfrm>
              <a:off x="971640" y="2637000"/>
              <a:ext cx="1655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mcat / 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TT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372360" y="1413000"/>
            <a:ext cx="1800000" cy="2302200"/>
            <a:chOff x="6372360" y="1413000"/>
            <a:chExt cx="1800000" cy="2302200"/>
          </a:xfrm>
        </p:grpSpPr>
        <p:grpSp>
          <p:nvGrpSpPr>
            <p:cNvPr id="340" name=""/>
            <p:cNvGrpSpPr/>
            <p:nvPr/>
          </p:nvGrpSpPr>
          <p:grpSpPr>
            <a:xfrm>
              <a:off x="6372360" y="1413000"/>
              <a:ext cx="1363680" cy="1039680"/>
              <a:chOff x="6372360" y="1413000"/>
              <a:chExt cx="1363680" cy="1039680"/>
            </a:xfrm>
          </p:grpSpPr>
          <p:pic>
            <p:nvPicPr>
              <p:cNvPr id="34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77080" y="1413000"/>
                <a:ext cx="85896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2360" y="1413000"/>
                <a:ext cx="3045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3" name=""/>
            <p:cNvSpPr/>
            <p:nvPr/>
          </p:nvSpPr>
          <p:spPr>
            <a:xfrm>
              <a:off x="6516720" y="2637000"/>
              <a:ext cx="165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mcat / ES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TT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627280" y="1197000"/>
            <a:ext cx="3889080" cy="1007640"/>
            <a:chOff x="2627280" y="1197000"/>
            <a:chExt cx="3889080" cy="1007640"/>
          </a:xfrm>
        </p:grpSpPr>
        <p:sp>
          <p:nvSpPr>
            <p:cNvPr id="345" name=""/>
            <p:cNvSpPr/>
            <p:nvPr/>
          </p:nvSpPr>
          <p:spPr>
            <a:xfrm>
              <a:off x="3995640" y="1197000"/>
              <a:ext cx="122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cc"/>
                  </a:solidFill>
                  <a:latin typeface="Tahoma"/>
                </a:rPr>
                <a:t>confi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2627280" y="1557000"/>
              <a:ext cx="3600360" cy="6476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 flipV="1">
              <a:off x="2916000" y="1557000"/>
              <a:ext cx="3600360" cy="6476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2627280" y="1557360"/>
            <a:ext cx="5037120" cy="3703320"/>
            <a:chOff x="2627280" y="1557360"/>
            <a:chExt cx="5037120" cy="3703320"/>
          </a:xfrm>
        </p:grpSpPr>
        <p:grpSp>
          <p:nvGrpSpPr>
            <p:cNvPr id="349" name=""/>
            <p:cNvGrpSpPr/>
            <p:nvPr/>
          </p:nvGrpSpPr>
          <p:grpSpPr>
            <a:xfrm>
              <a:off x="6300720" y="4221000"/>
              <a:ext cx="1363680" cy="1039680"/>
              <a:chOff x="6300720" y="4221000"/>
              <a:chExt cx="1363680" cy="10396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05440" y="4221000"/>
                <a:ext cx="85896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300720" y="4221000"/>
                <a:ext cx="3045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2" name=""/>
            <p:cNvSpPr/>
            <p:nvPr/>
          </p:nvSpPr>
          <p:spPr>
            <a:xfrm flipH="1" flipV="1">
              <a:off x="2916000" y="1557360"/>
              <a:ext cx="3887640" cy="3456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627280" y="2205000"/>
              <a:ext cx="3600360" cy="2016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627280" y="1628280"/>
            <a:ext cx="2948040" cy="4640760"/>
            <a:chOff x="2627280" y="1628280"/>
            <a:chExt cx="2948040" cy="4640760"/>
          </a:xfrm>
        </p:grpSpPr>
        <p:grpSp>
          <p:nvGrpSpPr>
            <p:cNvPr id="355" name=""/>
            <p:cNvGrpSpPr/>
            <p:nvPr/>
          </p:nvGrpSpPr>
          <p:grpSpPr>
            <a:xfrm>
              <a:off x="4211640" y="5229360"/>
              <a:ext cx="1363680" cy="1039680"/>
              <a:chOff x="4211640" y="5229360"/>
              <a:chExt cx="1363680" cy="1039680"/>
            </a:xfrm>
          </p:grpSpPr>
          <p:pic>
            <p:nvPicPr>
              <p:cNvPr id="3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716360" y="5229360"/>
                <a:ext cx="85896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211640" y="5229360"/>
                <a:ext cx="3045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"/>
            <p:cNvSpPr/>
            <p:nvPr/>
          </p:nvSpPr>
          <p:spPr>
            <a:xfrm flipH="1" flipV="1">
              <a:off x="2916000" y="1628280"/>
              <a:ext cx="2160360" cy="35290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7280" y="2205000"/>
              <a:ext cx="1728720" cy="295272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50920" y="1628280"/>
            <a:ext cx="1363680" cy="4640760"/>
            <a:chOff x="2050920" y="1628280"/>
            <a:chExt cx="1363680" cy="4640760"/>
          </a:xfrm>
        </p:grpSpPr>
        <p:grpSp>
          <p:nvGrpSpPr>
            <p:cNvPr id="361" name=""/>
            <p:cNvGrpSpPr/>
            <p:nvPr/>
          </p:nvGrpSpPr>
          <p:grpSpPr>
            <a:xfrm>
              <a:off x="2050920" y="5229360"/>
              <a:ext cx="1363680" cy="1039680"/>
              <a:chOff x="2050920" y="5229360"/>
              <a:chExt cx="1363680" cy="1039680"/>
            </a:xfrm>
          </p:grpSpPr>
          <p:pic>
            <p:nvPicPr>
              <p:cNvPr id="36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555640" y="5229360"/>
                <a:ext cx="85896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050920" y="5229360"/>
                <a:ext cx="3045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64" name=""/>
            <p:cNvSpPr/>
            <p:nvPr/>
          </p:nvSpPr>
          <p:spPr>
            <a:xfrm flipH="1" flipV="1">
              <a:off x="2916360" y="1628280"/>
              <a:ext cx="71280" cy="35290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195280" y="2205000"/>
              <a:ext cx="431640" cy="302436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971640" y="1413000"/>
            <a:ext cx="1817640" cy="1931760"/>
            <a:chOff x="971640" y="1413000"/>
            <a:chExt cx="1817640" cy="1931760"/>
          </a:xfrm>
        </p:grpSpPr>
        <p:grpSp>
          <p:nvGrpSpPr>
            <p:cNvPr id="373" name=""/>
            <p:cNvGrpSpPr/>
            <p:nvPr/>
          </p:nvGrpSpPr>
          <p:grpSpPr>
            <a:xfrm>
              <a:off x="1332000" y="1413000"/>
              <a:ext cx="1457280" cy="1039680"/>
              <a:chOff x="1332000" y="1413000"/>
              <a:chExt cx="1457280" cy="1039680"/>
            </a:xfrm>
          </p:grpSpPr>
          <p:pic>
            <p:nvPicPr>
              <p:cNvPr id="37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332000" y="1413000"/>
                <a:ext cx="85860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484360" y="1413000"/>
                <a:ext cx="30492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76" name=""/>
            <p:cNvSpPr/>
            <p:nvPr/>
          </p:nvSpPr>
          <p:spPr>
            <a:xfrm>
              <a:off x="971640" y="2637000"/>
              <a:ext cx="1655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mcat / C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TT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372360" y="1413000"/>
            <a:ext cx="1800000" cy="2302200"/>
            <a:chOff x="6372360" y="1413000"/>
            <a:chExt cx="1800000" cy="2302200"/>
          </a:xfrm>
        </p:grpSpPr>
        <p:grpSp>
          <p:nvGrpSpPr>
            <p:cNvPr id="378" name=""/>
            <p:cNvGrpSpPr/>
            <p:nvPr/>
          </p:nvGrpSpPr>
          <p:grpSpPr>
            <a:xfrm>
              <a:off x="6372360" y="1413000"/>
              <a:ext cx="1363680" cy="1039680"/>
              <a:chOff x="6372360" y="1413000"/>
              <a:chExt cx="1363680" cy="1039680"/>
            </a:xfrm>
          </p:grpSpPr>
          <p:pic>
            <p:nvPicPr>
              <p:cNvPr id="37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877080" y="1413000"/>
                <a:ext cx="85896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372360" y="1413000"/>
                <a:ext cx="3045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1" name=""/>
            <p:cNvSpPr/>
            <p:nvPr/>
          </p:nvSpPr>
          <p:spPr>
            <a:xfrm>
              <a:off x="6516720" y="2637000"/>
              <a:ext cx="1655640" cy="10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omcat / ESU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TT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7"/>
          <a:stretch/>
        </p:blipFill>
        <p:spPr>
          <a:xfrm>
            <a:off x="4356000" y="5985000"/>
            <a:ext cx="304920" cy="2300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4788000" y="5911920"/>
            <a:ext cx="20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utorité de certification ex : C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 flipV="1">
            <a:off x="2771280" y="1779120"/>
            <a:ext cx="1729080" cy="4132440"/>
          </a:xfrm>
          <a:prstGeom prst="line">
            <a:avLst/>
          </a:prstGeom>
          <a:ln w="190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4500720" y="1706400"/>
            <a:ext cx="1800000" cy="4205520"/>
          </a:xfrm>
          <a:prstGeom prst="line">
            <a:avLst/>
          </a:prstGeom>
          <a:ln w="1908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627280" y="2214720"/>
            <a:ext cx="1728720" cy="355284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642920" y="2143080"/>
            <a:ext cx="1800360" cy="3624480"/>
          </a:xfrm>
          <a:prstGeom prst="line">
            <a:avLst/>
          </a:prstGeom>
          <a:ln w="3816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500720" y="4508640"/>
            <a:ext cx="4098240" cy="1368360"/>
            <a:chOff x="4500720" y="4508640"/>
            <a:chExt cx="4098240" cy="1368360"/>
          </a:xfrm>
        </p:grpSpPr>
        <p:grpSp>
          <p:nvGrpSpPr>
            <p:cNvPr id="389" name=""/>
            <p:cNvGrpSpPr/>
            <p:nvPr/>
          </p:nvGrpSpPr>
          <p:grpSpPr>
            <a:xfrm>
              <a:off x="7236000" y="4508640"/>
              <a:ext cx="1362960" cy="1039680"/>
              <a:chOff x="7236000" y="4508640"/>
              <a:chExt cx="1362960" cy="1039680"/>
            </a:xfrm>
          </p:grpSpPr>
          <p:pic>
            <p:nvPicPr>
              <p:cNvPr id="39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7740360" y="4508640"/>
                <a:ext cx="85860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236000" y="4508640"/>
                <a:ext cx="3042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2" name=""/>
            <p:cNvSpPr/>
            <p:nvPr/>
          </p:nvSpPr>
          <p:spPr>
            <a:xfrm flipH="1">
              <a:off x="4716000" y="5229360"/>
              <a:ext cx="3024360" cy="64764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500720" y="4653000"/>
              <a:ext cx="2663640" cy="122400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26920" y="4724280"/>
            <a:ext cx="3673800" cy="1152720"/>
            <a:chOff x="826920" y="4724280"/>
            <a:chExt cx="3673800" cy="1152720"/>
          </a:xfrm>
        </p:grpSpPr>
        <p:grpSp>
          <p:nvGrpSpPr>
            <p:cNvPr id="395" name=""/>
            <p:cNvGrpSpPr/>
            <p:nvPr/>
          </p:nvGrpSpPr>
          <p:grpSpPr>
            <a:xfrm>
              <a:off x="826920" y="4724280"/>
              <a:ext cx="1363680" cy="1039680"/>
              <a:chOff x="826920" y="4724280"/>
              <a:chExt cx="1363680" cy="1039680"/>
            </a:xfrm>
          </p:grpSpPr>
          <p:pic>
            <p:nvPicPr>
              <p:cNvPr id="39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331640" y="4724280"/>
                <a:ext cx="858960" cy="1039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6920" y="4724280"/>
                <a:ext cx="30456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98" name=""/>
            <p:cNvSpPr/>
            <p:nvPr/>
          </p:nvSpPr>
          <p:spPr>
            <a:xfrm>
              <a:off x="2268360" y="5445000"/>
              <a:ext cx="1943280" cy="432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1187280" y="4869000"/>
              <a:ext cx="3313440" cy="1008000"/>
            </a:xfrm>
            <a:prstGeom prst="line">
              <a:avLst/>
            </a:prstGeom>
            <a:ln w="19080">
              <a:solidFill>
                <a:srgbClr val="00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4859280" y="1557360"/>
            <a:ext cx="4057560" cy="2303280"/>
            <a:chOff x="4859280" y="1557360"/>
            <a:chExt cx="4057560" cy="2303280"/>
          </a:xfrm>
        </p:grpSpPr>
        <p:sp>
          <p:nvSpPr>
            <p:cNvPr id="56" name=""/>
            <p:cNvSpPr/>
            <p:nvPr/>
          </p:nvSpPr>
          <p:spPr>
            <a:xfrm>
              <a:off x="4859280" y="1844640"/>
              <a:ext cx="3960720" cy="20160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8459640" y="1557360"/>
              <a:ext cx="457200" cy="45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1268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Mécanisme de SSO (Single Sign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24000" y="1773360"/>
            <a:ext cx="3841560" cy="1942920"/>
            <a:chOff x="324000" y="1773360"/>
            <a:chExt cx="3841560" cy="1942920"/>
          </a:xfrm>
        </p:grpSpPr>
        <p:grpSp>
          <p:nvGrpSpPr>
            <p:cNvPr id="62" name=""/>
            <p:cNvGrpSpPr/>
            <p:nvPr/>
          </p:nvGrpSpPr>
          <p:grpSpPr>
            <a:xfrm>
              <a:off x="2987640" y="2852640"/>
              <a:ext cx="1177920" cy="863640"/>
              <a:chOff x="2987640" y="2852640"/>
              <a:chExt cx="1177920" cy="8636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2987640" y="3139920"/>
                <a:ext cx="1079640" cy="576360"/>
                <a:chOff x="2987640" y="3139920"/>
                <a:chExt cx="1079640" cy="57636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059280" y="3139920"/>
                  <a:ext cx="1008000" cy="576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987640" y="328428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appli n°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08360" y="2852640"/>
                <a:ext cx="457200" cy="45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" name=""/>
            <p:cNvGrpSpPr/>
            <p:nvPr/>
          </p:nvGrpSpPr>
          <p:grpSpPr>
            <a:xfrm>
              <a:off x="1692360" y="2852640"/>
              <a:ext cx="1175760" cy="863640"/>
              <a:chOff x="1692360" y="2852640"/>
              <a:chExt cx="1175760" cy="8636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1692360" y="3139920"/>
                <a:ext cx="1078920" cy="576360"/>
                <a:chOff x="1692360" y="3139920"/>
                <a:chExt cx="1078920" cy="57636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1763640" y="3139920"/>
                  <a:ext cx="1007640" cy="576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92360" y="3284280"/>
                  <a:ext cx="100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appli n°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11280" y="2852640"/>
                <a:ext cx="456840" cy="452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2" name=""/>
            <p:cNvGrpSpPr/>
            <p:nvPr/>
          </p:nvGrpSpPr>
          <p:grpSpPr>
            <a:xfrm>
              <a:off x="395280" y="2852640"/>
              <a:ext cx="1176480" cy="863640"/>
              <a:chOff x="395280" y="2852640"/>
              <a:chExt cx="1176480" cy="8636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395280" y="3139920"/>
                <a:ext cx="1079640" cy="576360"/>
                <a:chOff x="395280" y="3139920"/>
                <a:chExt cx="1079640" cy="57636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66920" y="3139920"/>
                  <a:ext cx="1008000" cy="576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95280" y="328428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appli n°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114560" y="2852640"/>
                <a:ext cx="457200" cy="452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324000" y="1773360"/>
              <a:ext cx="1465200" cy="667440"/>
              <a:chOff x="324000" y="1773360"/>
              <a:chExt cx="1465200" cy="667440"/>
            </a:xfrm>
          </p:grpSpPr>
          <p:sp>
            <p:nvSpPr>
              <p:cNvPr id="78" name=""/>
              <p:cNvSpPr/>
              <p:nvPr/>
            </p:nvSpPr>
            <p:spPr>
              <a:xfrm>
                <a:off x="324000" y="2060640"/>
                <a:ext cx="1368360" cy="360360"/>
              </a:xfrm>
              <a:prstGeom prst="cube">
                <a:avLst>
                  <a:gd name="adj" fmla="val 25000"/>
                </a:avLst>
              </a:prstGeom>
              <a:solidFill>
                <a:srgbClr val="00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332000" y="1773360"/>
                <a:ext cx="457200" cy="45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324000" y="2133720"/>
                <a:ext cx="122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00000" y="2492280"/>
              <a:ext cx="142920" cy="576360"/>
            </a:xfrm>
            <a:prstGeom prst="upArrow">
              <a:avLst>
                <a:gd name="adj1" fmla="val 50000"/>
                <a:gd name="adj2" fmla="val 100819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042560" y="3789000"/>
            <a:ext cx="2161080" cy="2313360"/>
            <a:chOff x="1042560" y="3789000"/>
            <a:chExt cx="2161080" cy="2313360"/>
          </a:xfrm>
        </p:grpSpPr>
        <p:sp>
          <p:nvSpPr>
            <p:cNvPr id="83" name=""/>
            <p:cNvSpPr/>
            <p:nvPr/>
          </p:nvSpPr>
          <p:spPr>
            <a:xfrm>
              <a:off x="1116000" y="5661000"/>
              <a:ext cx="2016000" cy="432000"/>
            </a:xfrm>
            <a:prstGeom prst="cube">
              <a:avLst>
                <a:gd name="adj" fmla="val 25000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042560" y="3789000"/>
              <a:ext cx="2161080" cy="2313360"/>
              <a:chOff x="1042560" y="3789000"/>
              <a:chExt cx="2161080" cy="2313360"/>
            </a:xfrm>
          </p:grpSpPr>
          <p:sp>
            <p:nvSpPr>
              <p:cNvPr id="85" name=""/>
              <p:cNvSpPr/>
              <p:nvPr/>
            </p:nvSpPr>
            <p:spPr>
              <a:xfrm>
                <a:off x="1116000" y="5734080"/>
                <a:ext cx="19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navigate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1042560" y="3933720"/>
                <a:ext cx="1081080" cy="15112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124000" y="3789000"/>
                <a:ext cx="0" cy="16556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124000" y="3933720"/>
                <a:ext cx="1079640" cy="15112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4932360" y="2060640"/>
            <a:ext cx="3742920" cy="1655640"/>
            <a:chOff x="4932360" y="2060640"/>
            <a:chExt cx="3742920" cy="1655640"/>
          </a:xfrm>
        </p:grpSpPr>
        <p:sp>
          <p:nvSpPr>
            <p:cNvPr id="90" name=""/>
            <p:cNvSpPr/>
            <p:nvPr/>
          </p:nvSpPr>
          <p:spPr>
            <a:xfrm>
              <a:off x="4932360" y="2060640"/>
              <a:ext cx="1368360" cy="360360"/>
            </a:xfrm>
            <a:prstGeom prst="cube">
              <a:avLst>
                <a:gd name="adj" fmla="val 25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4932360" y="2133720"/>
              <a:ext cx="3742920" cy="1582560"/>
              <a:chOff x="4932360" y="2133720"/>
              <a:chExt cx="3742920" cy="158256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7596360" y="3139920"/>
                <a:ext cx="1078920" cy="576360"/>
                <a:chOff x="7596360" y="3139920"/>
                <a:chExt cx="1078920" cy="5763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7667640" y="3139920"/>
                  <a:ext cx="1007640" cy="576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7596360" y="3284280"/>
                  <a:ext cx="10076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appli n°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300720" y="3139920"/>
                <a:ext cx="1079640" cy="576360"/>
                <a:chOff x="6300720" y="3139920"/>
                <a:chExt cx="1079640" cy="5763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372360" y="3139920"/>
                  <a:ext cx="1008000" cy="576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300720" y="328428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appli n°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003640" y="3139920"/>
                <a:ext cx="1079640" cy="576360"/>
                <a:chOff x="5003640" y="3139920"/>
                <a:chExt cx="1079640" cy="57636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075280" y="3139920"/>
                  <a:ext cx="1008000" cy="5763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03640" y="3284280"/>
                  <a:ext cx="1008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Tahoma"/>
                    </a:rPr>
                    <a:t>appli n°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932360" y="2133720"/>
                <a:ext cx="12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08720" y="2492280"/>
                <a:ext cx="142920" cy="576360"/>
              </a:xfrm>
              <a:prstGeom prst="upArrow">
                <a:avLst>
                  <a:gd name="adj1" fmla="val 50000"/>
                  <a:gd name="adj2" fmla="val 100819"/>
                </a:avLst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4140360" y="5589720"/>
            <a:ext cx="1078920" cy="576000"/>
            <a:chOff x="4140360" y="5589720"/>
            <a:chExt cx="1078920" cy="576000"/>
          </a:xfrm>
        </p:grpSpPr>
        <p:sp>
          <p:nvSpPr>
            <p:cNvPr id="104" name=""/>
            <p:cNvSpPr/>
            <p:nvPr/>
          </p:nvSpPr>
          <p:spPr>
            <a:xfrm>
              <a:off x="4211640" y="5589720"/>
              <a:ext cx="1007640" cy="576000"/>
            </a:xfrm>
            <a:prstGeom prst="cube">
              <a:avLst>
                <a:gd name="adj" fmla="val 25000"/>
              </a:avLst>
            </a:prstGeom>
            <a:solidFill>
              <a:srgbClr val="99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140360" y="5733720"/>
              <a:ext cx="100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S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5219640" y="3789000"/>
            <a:ext cx="2592360" cy="2313360"/>
            <a:chOff x="5219640" y="3789000"/>
            <a:chExt cx="2592360" cy="2313360"/>
          </a:xfrm>
        </p:grpSpPr>
        <p:sp>
          <p:nvSpPr>
            <p:cNvPr id="107" name=""/>
            <p:cNvSpPr/>
            <p:nvPr/>
          </p:nvSpPr>
          <p:spPr>
            <a:xfrm>
              <a:off x="5724360" y="5661000"/>
              <a:ext cx="2016360" cy="432000"/>
            </a:xfrm>
            <a:prstGeom prst="cube">
              <a:avLst>
                <a:gd name="adj" fmla="val 25000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219640" y="3789000"/>
              <a:ext cx="2592360" cy="2313360"/>
              <a:chOff x="5219640" y="3789000"/>
              <a:chExt cx="2592360" cy="2313360"/>
            </a:xfrm>
          </p:grpSpPr>
          <p:sp>
            <p:nvSpPr>
              <p:cNvPr id="109" name=""/>
              <p:cNvSpPr/>
              <p:nvPr/>
            </p:nvSpPr>
            <p:spPr>
              <a:xfrm>
                <a:off x="5724360" y="5734080"/>
                <a:ext cx="1943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navigateu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5651280" y="3933720"/>
                <a:ext cx="1081080" cy="15112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6732720" y="3789000"/>
                <a:ext cx="0" cy="16556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732720" y="3933720"/>
                <a:ext cx="1079280" cy="15112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5219640" y="5950080"/>
                <a:ext cx="50472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nctionnement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1413000"/>
            <a:ext cx="1441440" cy="1584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41">
                <a:moveTo>
                  <a:pt x="3600" y="0"/>
                </a:moveTo>
                <a:arcTo wR="3600" hR="3600" stAng="16200000" swAng="-5400000"/>
                <a:lnTo>
                  <a:pt x="0" y="20141"/>
                </a:lnTo>
                <a:arcTo wR="3600" hR="3600" stAng="10800000" swAng="-5400000"/>
                <a:lnTo>
                  <a:pt x="18000" y="2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42920" y="1413000"/>
            <a:ext cx="1441440" cy="1584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41">
                <a:moveTo>
                  <a:pt x="3600" y="0"/>
                </a:moveTo>
                <a:arcTo wR="3600" hR="3600" stAng="16200000" swAng="-5400000"/>
                <a:lnTo>
                  <a:pt x="0" y="20141"/>
                </a:lnTo>
                <a:arcTo wR="3600" hR="3600" stAng="10800000" swAng="-5400000"/>
                <a:lnTo>
                  <a:pt x="18000" y="2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2000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64000" y="5229360"/>
            <a:ext cx="1873080" cy="1368360"/>
          </a:xfrm>
          <a:prstGeom prst="hexagon">
            <a:avLst>
              <a:gd name="adj" fmla="val 34221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92720" y="3068280"/>
            <a:ext cx="2232000" cy="2376360"/>
          </a:xfrm>
          <a:prstGeom prst="line">
            <a:avLst/>
          </a:prstGeom>
          <a:ln w="38160">
            <a:solidFill>
              <a:srgbClr val="00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340000" y="3068640"/>
            <a:ext cx="4895640" cy="2342520"/>
            <a:chOff x="2340000" y="3068640"/>
            <a:chExt cx="4895640" cy="2342520"/>
          </a:xfrm>
        </p:grpSpPr>
        <p:sp>
          <p:nvSpPr>
            <p:cNvPr id="128" name=""/>
            <p:cNvSpPr/>
            <p:nvPr/>
          </p:nvSpPr>
          <p:spPr>
            <a:xfrm flipH="1">
              <a:off x="5148000" y="3068640"/>
              <a:ext cx="2087640" cy="2232000"/>
            </a:xfrm>
            <a:prstGeom prst="line">
              <a:avLst/>
            </a:prstGeom>
            <a:ln w="38160">
              <a:solidFill>
                <a:srgbClr val="99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9445800">
              <a:off x="4824000" y="5048640"/>
              <a:ext cx="509760" cy="27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96425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964253"/>
                </a:path>
              </a:pathLst>
            </a:custGeom>
            <a:noFill/>
            <a:ln w="38160">
              <a:solidFill>
                <a:srgbClr val="99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2340000" y="3068640"/>
              <a:ext cx="2519280" cy="2232000"/>
            </a:xfrm>
            <a:prstGeom prst="line">
              <a:avLst/>
            </a:prstGeom>
            <a:ln w="38160">
              <a:solidFill>
                <a:srgbClr val="9966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771640" y="3284640"/>
              <a:ext cx="72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ff"/>
                  </a:solidFill>
                  <a:latin typeface="Arial"/>
                </a:rPr>
                <a:t>HTT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826920" y="3141720"/>
            <a:ext cx="3529080" cy="2016000"/>
            <a:chOff x="826920" y="3141720"/>
            <a:chExt cx="3529080" cy="2016000"/>
          </a:xfrm>
        </p:grpSpPr>
        <p:sp>
          <p:nvSpPr>
            <p:cNvPr id="133" name=""/>
            <p:cNvSpPr/>
            <p:nvPr/>
          </p:nvSpPr>
          <p:spPr>
            <a:xfrm>
              <a:off x="2050920" y="3141720"/>
              <a:ext cx="2305080" cy="201600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6920" y="4005360"/>
              <a:ext cx="2519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Formulaire d'authen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nctionnement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1413000"/>
            <a:ext cx="1441440" cy="1584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41">
                <a:moveTo>
                  <a:pt x="3600" y="0"/>
                </a:moveTo>
                <a:arcTo wR="3600" hR="3600" stAng="16200000" swAng="-5400000"/>
                <a:lnTo>
                  <a:pt x="0" y="20141"/>
                </a:lnTo>
                <a:arcTo wR="3600" hR="3600" stAng="10800000" swAng="-5400000"/>
                <a:lnTo>
                  <a:pt x="18000" y="2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42920" y="1413000"/>
            <a:ext cx="1441440" cy="1584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41">
                <a:moveTo>
                  <a:pt x="3600" y="0"/>
                </a:moveTo>
                <a:arcTo wR="3600" hR="3600" stAng="16200000" swAng="-5400000"/>
                <a:lnTo>
                  <a:pt x="0" y="20141"/>
                </a:lnTo>
                <a:arcTo wR="3600" hR="3600" stAng="10800000" swAng="-5400000"/>
                <a:lnTo>
                  <a:pt x="18000" y="2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5892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02000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64000" y="5229360"/>
            <a:ext cx="1873080" cy="1368360"/>
          </a:xfrm>
          <a:prstGeom prst="hexagon">
            <a:avLst>
              <a:gd name="adj" fmla="val 34221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51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187280" y="3141360"/>
            <a:ext cx="2376360" cy="2592360"/>
            <a:chOff x="1187280" y="3141360"/>
            <a:chExt cx="2376360" cy="2592360"/>
          </a:xfrm>
        </p:grpSpPr>
        <p:sp>
          <p:nvSpPr>
            <p:cNvPr id="148" name=""/>
            <p:cNvSpPr/>
            <p:nvPr/>
          </p:nvSpPr>
          <p:spPr>
            <a:xfrm flipH="1" flipV="1">
              <a:off x="1547280" y="3141360"/>
              <a:ext cx="2016360" cy="2592360"/>
            </a:xfrm>
            <a:prstGeom prst="line">
              <a:avLst/>
            </a:prstGeom>
            <a:ln w="3816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7280" y="4076640"/>
              <a:ext cx="144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99ff"/>
                  </a:solidFill>
                  <a:latin typeface="Arial"/>
                </a:rPr>
                <a:t>Login + passw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148360" y="6237360"/>
            <a:ext cx="57456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Arial"/>
              </a:rPr>
              <a:t>T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979640" y="3068640"/>
            <a:ext cx="4860720" cy="2541960"/>
            <a:chOff x="1979640" y="3068640"/>
            <a:chExt cx="4860720" cy="2541960"/>
          </a:xfrm>
        </p:grpSpPr>
        <p:grpSp>
          <p:nvGrpSpPr>
            <p:cNvPr id="152" name=""/>
            <p:cNvGrpSpPr/>
            <p:nvPr/>
          </p:nvGrpSpPr>
          <p:grpSpPr>
            <a:xfrm>
              <a:off x="1979640" y="3068640"/>
              <a:ext cx="2446920" cy="2541960"/>
              <a:chOff x="1979640" y="3068640"/>
              <a:chExt cx="2446920" cy="2541960"/>
            </a:xfrm>
          </p:grpSpPr>
          <p:sp>
            <p:nvSpPr>
              <p:cNvPr id="153" name=""/>
              <p:cNvSpPr/>
              <p:nvPr/>
            </p:nvSpPr>
            <p:spPr>
              <a:xfrm>
                <a:off x="1979640" y="3068640"/>
                <a:ext cx="1871640" cy="237636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 rot="18595800">
                <a:off x="3733560" y="4916160"/>
                <a:ext cx="573840" cy="57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8160">
                <a:solidFill>
                  <a:srgbClr val="ff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556000" y="3141720"/>
                <a:ext cx="649080" cy="5544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Arial"/>
                  </a:rPr>
                  <a:t>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cc"/>
                    </a:solidFill>
                    <a:latin typeface="Arial"/>
                  </a:rPr>
                  <a:t>TG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248000" y="3086280"/>
              <a:ext cx="2592360" cy="2304720"/>
              <a:chOff x="4248000" y="3086280"/>
              <a:chExt cx="2592360" cy="2304720"/>
            </a:xfrm>
          </p:grpSpPr>
          <p:sp>
            <p:nvSpPr>
              <p:cNvPr id="157" name=""/>
              <p:cNvSpPr/>
              <p:nvPr/>
            </p:nvSpPr>
            <p:spPr>
              <a:xfrm flipV="1">
                <a:off x="4248000" y="3086280"/>
                <a:ext cx="2592360" cy="2304720"/>
              </a:xfrm>
              <a:prstGeom prst="line">
                <a:avLst/>
              </a:prstGeom>
              <a:ln w="38160">
                <a:solidFill>
                  <a:srgbClr val="0099ff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508720" y="4365720"/>
                <a:ext cx="574560" cy="2764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99ff"/>
                    </a:solidFill>
                    <a:latin typeface="Arial"/>
                  </a:rPr>
                  <a:t>S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2339640" y="1916280"/>
            <a:ext cx="4393080" cy="636840"/>
            <a:chOff x="2339640" y="1916280"/>
            <a:chExt cx="4393080" cy="636840"/>
          </a:xfrm>
        </p:grpSpPr>
        <p:grpSp>
          <p:nvGrpSpPr>
            <p:cNvPr id="160" name=""/>
            <p:cNvGrpSpPr/>
            <p:nvPr/>
          </p:nvGrpSpPr>
          <p:grpSpPr>
            <a:xfrm>
              <a:off x="2339640" y="1916280"/>
              <a:ext cx="4393080" cy="288720"/>
              <a:chOff x="2339640" y="1916280"/>
              <a:chExt cx="4393080" cy="288720"/>
            </a:xfrm>
          </p:grpSpPr>
          <p:sp>
            <p:nvSpPr>
              <p:cNvPr id="161" name=""/>
              <p:cNvSpPr/>
              <p:nvPr/>
            </p:nvSpPr>
            <p:spPr>
              <a:xfrm flipH="1">
                <a:off x="2627280" y="2205000"/>
                <a:ext cx="4105440" cy="0"/>
              </a:xfrm>
              <a:prstGeom prst="line">
                <a:avLst/>
              </a:prstGeom>
              <a:ln w="38160">
                <a:solidFill>
                  <a:srgbClr val="99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339280" y="1916280"/>
                <a:ext cx="57708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762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76239"/>
                  </a:path>
                </a:pathLst>
              </a:custGeom>
              <a:noFill/>
              <a:ln w="38160">
                <a:solidFill>
                  <a:srgbClr val="99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4211640" y="227664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ff"/>
                  </a:solidFill>
                  <a:latin typeface="Arial"/>
                </a:rPr>
                <a:t>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2627280" y="1557360"/>
            <a:ext cx="4105440" cy="358920"/>
            <a:chOff x="2627280" y="1557360"/>
            <a:chExt cx="4105440" cy="358920"/>
          </a:xfrm>
        </p:grpSpPr>
        <p:sp>
          <p:nvSpPr>
            <p:cNvPr id="165" name=""/>
            <p:cNvSpPr/>
            <p:nvPr/>
          </p:nvSpPr>
          <p:spPr>
            <a:xfrm>
              <a:off x="2627280" y="1916280"/>
              <a:ext cx="4105440" cy="0"/>
            </a:xfrm>
            <a:prstGeom prst="line">
              <a:avLst/>
            </a:prstGeom>
            <a:ln w="38160">
              <a:solidFill>
                <a:srgbClr val="ff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11640" y="155736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5219640" y="3068640"/>
            <a:ext cx="2665440" cy="252108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nctionnement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04000" y="1413000"/>
            <a:ext cx="1441440" cy="1584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41">
                <a:moveTo>
                  <a:pt x="3600" y="0"/>
                </a:moveTo>
                <a:arcTo wR="3600" hR="3600" stAng="16200000" swAng="-5400000"/>
                <a:lnTo>
                  <a:pt x="0" y="20141"/>
                </a:lnTo>
                <a:arcTo wR="3600" hR="3600" stAng="10800000" swAng="-5400000"/>
                <a:lnTo>
                  <a:pt x="18000" y="2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42920" y="1413000"/>
            <a:ext cx="1441440" cy="158436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1584360"/>
              <a:gd name="textAreaBottom" fmla="*/ 1514160 h 1584360"/>
            </a:gdLst>
            <a:ahLst/>
            <a:rect l="textAreaLeft" t="textAreaTop" r="textAreaRight" b="textAreaBottom"/>
            <a:pathLst>
              <a:path w="21600" h="23741">
                <a:moveTo>
                  <a:pt x="3600" y="0"/>
                </a:moveTo>
                <a:arcTo wR="3600" hR="3600" stAng="16200000" swAng="-5400000"/>
                <a:lnTo>
                  <a:pt x="0" y="20141"/>
                </a:lnTo>
                <a:arcTo wR="3600" hR="3600" stAng="10800000" swAng="-5400000"/>
                <a:lnTo>
                  <a:pt x="18000" y="237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148428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48360" y="1484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Web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64000" y="5229360"/>
            <a:ext cx="1873080" cy="1368360"/>
          </a:xfrm>
          <a:prstGeom prst="hexagon">
            <a:avLst>
              <a:gd name="adj" fmla="val 34221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57340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vig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6237360"/>
            <a:ext cx="57456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Arial"/>
              </a:rPr>
              <a:t>T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076720" y="2717640"/>
            <a:ext cx="1935720" cy="2511720"/>
            <a:chOff x="5076720" y="2717640"/>
            <a:chExt cx="1935720" cy="2511720"/>
          </a:xfrm>
        </p:grpSpPr>
        <p:sp>
          <p:nvSpPr>
            <p:cNvPr id="182" name=""/>
            <p:cNvSpPr/>
            <p:nvPr/>
          </p:nvSpPr>
          <p:spPr>
            <a:xfrm flipV="1">
              <a:off x="5076720" y="2997360"/>
              <a:ext cx="1800360" cy="2232000"/>
            </a:xfrm>
            <a:prstGeom prst="line">
              <a:avLst/>
            </a:prstGeom>
            <a:ln w="38160">
              <a:solidFill>
                <a:srgbClr val="00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8659400">
              <a:off x="6606360" y="2839320"/>
              <a:ext cx="406440" cy="18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121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12130"/>
                </a:path>
              </a:pathLst>
            </a:custGeom>
            <a:noFill/>
            <a:ln w="38160">
              <a:solidFill>
                <a:srgbClr val="0099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430360" y="2492280"/>
            <a:ext cx="4302360" cy="2697480"/>
            <a:chOff x="2430360" y="2492280"/>
            <a:chExt cx="4302360" cy="2697480"/>
          </a:xfrm>
        </p:grpSpPr>
        <p:grpSp>
          <p:nvGrpSpPr>
            <p:cNvPr id="185" name=""/>
            <p:cNvGrpSpPr/>
            <p:nvPr/>
          </p:nvGrpSpPr>
          <p:grpSpPr>
            <a:xfrm>
              <a:off x="2430360" y="2970360"/>
              <a:ext cx="2402280" cy="2219400"/>
              <a:chOff x="2430360" y="2970360"/>
              <a:chExt cx="2402280" cy="2219400"/>
            </a:xfrm>
          </p:grpSpPr>
          <p:sp>
            <p:nvSpPr>
              <p:cNvPr id="186" name=""/>
              <p:cNvSpPr/>
              <p:nvPr/>
            </p:nvSpPr>
            <p:spPr>
              <a:xfrm>
                <a:off x="2430360" y="2970360"/>
                <a:ext cx="1925640" cy="2043000"/>
              </a:xfrm>
              <a:prstGeom prst="line">
                <a:avLst/>
              </a:prstGeom>
              <a:ln w="38160">
                <a:solidFill>
                  <a:srgbClr val="ff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8037600">
                <a:off x="4311000" y="4655160"/>
                <a:ext cx="424080" cy="450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0315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031523"/>
                  </a:path>
                </a:pathLst>
              </a:custGeom>
              <a:noFill/>
              <a:ln w="38160">
                <a:solidFill>
                  <a:srgbClr val="ff33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V="1">
              <a:off x="4680000" y="2492280"/>
              <a:ext cx="2052720" cy="2554560"/>
            </a:xfrm>
            <a:prstGeom prst="line">
              <a:avLst/>
            </a:prstGeom>
            <a:ln w="3816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124000" y="2819160"/>
            <a:ext cx="4616280" cy="2703960"/>
            <a:chOff x="2124000" y="2819160"/>
            <a:chExt cx="4616280" cy="2703960"/>
          </a:xfrm>
        </p:grpSpPr>
        <p:grpSp>
          <p:nvGrpSpPr>
            <p:cNvPr id="190" name=""/>
            <p:cNvGrpSpPr/>
            <p:nvPr/>
          </p:nvGrpSpPr>
          <p:grpSpPr>
            <a:xfrm>
              <a:off x="2156760" y="2819160"/>
              <a:ext cx="4583520" cy="2703960"/>
              <a:chOff x="2156760" y="2819160"/>
              <a:chExt cx="4583520" cy="270396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4250520" y="2879640"/>
                <a:ext cx="2489760" cy="2643480"/>
                <a:chOff x="4250520" y="2879640"/>
                <a:chExt cx="2489760" cy="264348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4716000" y="2879640"/>
                  <a:ext cx="2024280" cy="2494080"/>
                </a:xfrm>
                <a:prstGeom prst="line">
                  <a:avLst/>
                </a:prstGeom>
                <a:ln w="38160">
                  <a:solidFill>
                    <a:srgbClr val="9966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8037600">
                  <a:off x="4347720" y="4988520"/>
                  <a:ext cx="424080" cy="450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60315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6031523"/>
                    </a:path>
                  </a:pathLst>
                </a:custGeom>
                <a:noFill/>
                <a:ln w="38160">
                  <a:solidFill>
                    <a:srgbClr val="9966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156760" y="2819160"/>
                <a:ext cx="2235600" cy="2516040"/>
                <a:chOff x="2156760" y="2819160"/>
                <a:chExt cx="2235600" cy="2516040"/>
              </a:xfrm>
            </p:grpSpPr>
            <p:sp>
              <p:nvSpPr>
                <p:cNvPr id="195" name=""/>
                <p:cNvSpPr/>
                <p:nvPr/>
              </p:nvSpPr>
              <p:spPr>
                <a:xfrm flipH="1" flipV="1">
                  <a:off x="2268000" y="3068280"/>
                  <a:ext cx="2124360" cy="2266920"/>
                </a:xfrm>
                <a:prstGeom prst="line">
                  <a:avLst/>
                </a:prstGeom>
                <a:ln w="38160">
                  <a:solidFill>
                    <a:srgbClr val="9966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3679400">
                  <a:off x="2157840" y="2939760"/>
                  <a:ext cx="406440" cy="183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10121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1012130"/>
                    </a:path>
                  </a:pathLst>
                </a:custGeom>
                <a:noFill/>
                <a:ln w="38160">
                  <a:solidFill>
                    <a:srgbClr val="9966ff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97" name=""/>
            <p:cNvSpPr/>
            <p:nvPr/>
          </p:nvSpPr>
          <p:spPr>
            <a:xfrm>
              <a:off x="2124000" y="364500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TG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32000" y="328464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339640" y="1916280"/>
            <a:ext cx="4393080" cy="636840"/>
            <a:chOff x="2339640" y="1916280"/>
            <a:chExt cx="4393080" cy="636840"/>
          </a:xfrm>
        </p:grpSpPr>
        <p:grpSp>
          <p:nvGrpSpPr>
            <p:cNvPr id="200" name=""/>
            <p:cNvGrpSpPr/>
            <p:nvPr/>
          </p:nvGrpSpPr>
          <p:grpSpPr>
            <a:xfrm>
              <a:off x="2339640" y="1916280"/>
              <a:ext cx="4393080" cy="288720"/>
              <a:chOff x="2339640" y="1916280"/>
              <a:chExt cx="4393080" cy="288720"/>
            </a:xfrm>
          </p:grpSpPr>
          <p:sp>
            <p:nvSpPr>
              <p:cNvPr id="201" name=""/>
              <p:cNvSpPr/>
              <p:nvPr/>
            </p:nvSpPr>
            <p:spPr>
              <a:xfrm flipH="1">
                <a:off x="2627280" y="2205000"/>
                <a:ext cx="4105440" cy="0"/>
              </a:xfrm>
              <a:prstGeom prst="line">
                <a:avLst/>
              </a:prstGeom>
              <a:ln w="38160">
                <a:solidFill>
                  <a:srgbClr val="99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339280" y="1916280"/>
                <a:ext cx="57708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762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76239"/>
                  </a:path>
                </a:pathLst>
              </a:custGeom>
              <a:noFill/>
              <a:ln w="38160">
                <a:solidFill>
                  <a:srgbClr val="99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4211640" y="227664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ff"/>
                  </a:solidFill>
                  <a:latin typeface="Arial"/>
                </a:rPr>
                <a:t>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2627280" y="1557360"/>
            <a:ext cx="4105440" cy="358920"/>
            <a:chOff x="2627280" y="1557360"/>
            <a:chExt cx="4105440" cy="358920"/>
          </a:xfrm>
        </p:grpSpPr>
        <p:sp>
          <p:nvSpPr>
            <p:cNvPr id="205" name=""/>
            <p:cNvSpPr/>
            <p:nvPr/>
          </p:nvSpPr>
          <p:spPr>
            <a:xfrm>
              <a:off x="2627280" y="1916280"/>
              <a:ext cx="4105440" cy="0"/>
            </a:xfrm>
            <a:prstGeom prst="line">
              <a:avLst/>
            </a:prstGeom>
            <a:ln w="38160">
              <a:solidFill>
                <a:srgbClr val="ff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11640" y="155736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 flipH="1">
            <a:off x="5219280" y="2997360"/>
            <a:ext cx="2016360" cy="251928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nctionnemen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005360"/>
            <a:ext cx="822240" cy="871560"/>
          </a:xfrm>
          <a:custGeom>
            <a:avLst/>
            <a:gdLst>
              <a:gd name="textAreaLeft" fmla="*/ 39960 w 822240"/>
              <a:gd name="textAreaRight" fmla="*/ 782280 w 822240"/>
              <a:gd name="textAreaTop" fmla="*/ 39960 h 871560"/>
              <a:gd name="textAreaBottom" fmla="*/ 831600 h 871560"/>
            </a:gdLst>
            <a:ahLst/>
            <a:rect l="textAreaLeft" t="textAreaTop" r="textAreaRight" b="textAreaBottom"/>
            <a:pathLst>
              <a:path w="21600" h="22895">
                <a:moveTo>
                  <a:pt x="3600" y="0"/>
                </a:moveTo>
                <a:arcTo wR="3600" hR="3600" stAng="16200000" swAng="-5400000"/>
                <a:lnTo>
                  <a:pt x="0" y="19295"/>
                </a:lnTo>
                <a:arcTo wR="3600" hR="3600" stAng="10800000" swAng="-5400000"/>
                <a:lnTo>
                  <a:pt x="18000" y="22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42920" y="1413000"/>
            <a:ext cx="865080" cy="8636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8000" y="5516640"/>
            <a:ext cx="1370160" cy="1008000"/>
          </a:xfrm>
          <a:prstGeom prst="hexagon">
            <a:avLst>
              <a:gd name="adj" fmla="val 33982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87280" y="1484280"/>
            <a:ext cx="6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32360" y="4076640"/>
            <a:ext cx="79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5800" y="573264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vig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72360" y="1413000"/>
            <a:ext cx="936360" cy="863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83440" y="14842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758960" y="1942920"/>
            <a:ext cx="3122640" cy="2661120"/>
            <a:chOff x="1758960" y="1942920"/>
            <a:chExt cx="3122640" cy="2661120"/>
          </a:xfrm>
        </p:grpSpPr>
        <p:sp>
          <p:nvSpPr>
            <p:cNvPr id="223" name=""/>
            <p:cNvSpPr/>
            <p:nvPr/>
          </p:nvSpPr>
          <p:spPr>
            <a:xfrm flipH="1" flipV="1">
              <a:off x="1962000" y="2330280"/>
              <a:ext cx="2919600" cy="2273760"/>
            </a:xfrm>
            <a:prstGeom prst="line">
              <a:avLst/>
            </a:prstGeom>
            <a:ln w="38160">
              <a:solidFill>
                <a:srgbClr val="99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rot="2274000">
              <a:off x="1792080" y="2072160"/>
              <a:ext cx="520560" cy="28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7623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76239"/>
                </a:path>
              </a:pathLst>
            </a:custGeom>
            <a:noFill/>
            <a:ln w="38160">
              <a:solidFill>
                <a:srgbClr val="99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56000" y="328464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ff"/>
                  </a:solidFill>
                  <a:latin typeface="Arial"/>
                </a:rPr>
                <a:t>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2158920" y="2116080"/>
            <a:ext cx="2735280" cy="2087640"/>
            <a:chOff x="2158920" y="2116080"/>
            <a:chExt cx="2735280" cy="2087640"/>
          </a:xfrm>
        </p:grpSpPr>
        <p:sp>
          <p:nvSpPr>
            <p:cNvPr id="227" name=""/>
            <p:cNvSpPr/>
            <p:nvPr/>
          </p:nvSpPr>
          <p:spPr>
            <a:xfrm>
              <a:off x="2158920" y="2116080"/>
              <a:ext cx="2735280" cy="2087640"/>
            </a:xfrm>
            <a:prstGeom prst="line">
              <a:avLst/>
            </a:prstGeom>
            <a:ln w="38160">
              <a:solidFill>
                <a:srgbClr val="ff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35280" y="249228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5280" y="285264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PG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2987640" y="6308640"/>
            <a:ext cx="57456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Arial"/>
              </a:rPr>
              <a:t>T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51640" y="4797360"/>
            <a:ext cx="57456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ff"/>
                </a:solidFill>
                <a:latin typeface="Arial"/>
              </a:rPr>
              <a:t>P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3203280" y="4869000"/>
            <a:ext cx="1873080" cy="100800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132000" y="4797360"/>
            <a:ext cx="1727280" cy="936720"/>
            <a:chOff x="3132000" y="4797360"/>
            <a:chExt cx="1727280" cy="936720"/>
          </a:xfrm>
        </p:grpSpPr>
        <p:sp>
          <p:nvSpPr>
            <p:cNvPr id="234" name=""/>
            <p:cNvSpPr/>
            <p:nvPr/>
          </p:nvSpPr>
          <p:spPr>
            <a:xfrm flipV="1">
              <a:off x="3132000" y="4797360"/>
              <a:ext cx="1727280" cy="936720"/>
            </a:xfrm>
            <a:prstGeom prst="line">
              <a:avLst/>
            </a:prstGeom>
            <a:ln w="38160">
              <a:solidFill>
                <a:srgbClr val="0099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92360" y="494172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ff"/>
                  </a:solidFill>
                  <a:latin typeface="Arial"/>
                </a:rPr>
                <a:t>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Fonctionnement 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4005360"/>
            <a:ext cx="822240" cy="871560"/>
          </a:xfrm>
          <a:custGeom>
            <a:avLst/>
            <a:gdLst>
              <a:gd name="textAreaLeft" fmla="*/ 39960 w 822240"/>
              <a:gd name="textAreaRight" fmla="*/ 782280 w 822240"/>
              <a:gd name="textAreaTop" fmla="*/ 39960 h 871560"/>
              <a:gd name="textAreaBottom" fmla="*/ 831600 h 871560"/>
            </a:gdLst>
            <a:ahLst/>
            <a:rect l="textAreaLeft" t="textAreaTop" r="textAreaRight" b="textAreaBottom"/>
            <a:pathLst>
              <a:path w="21600" h="22895">
                <a:moveTo>
                  <a:pt x="3600" y="0"/>
                </a:moveTo>
                <a:arcTo wR="3600" hR="3600" stAng="16200000" swAng="-5400000"/>
                <a:lnTo>
                  <a:pt x="0" y="19295"/>
                </a:lnTo>
                <a:arcTo wR="3600" hR="3600" stAng="10800000" swAng="-5400000"/>
                <a:lnTo>
                  <a:pt x="18000" y="228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42920" y="1413000"/>
            <a:ext cx="865080" cy="863640"/>
          </a:xfrm>
          <a:prstGeom prst="roundRect">
            <a:avLst>
              <a:gd name="adj" fmla="val 16667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5516640"/>
            <a:ext cx="1370160" cy="1008000"/>
          </a:xfrm>
          <a:prstGeom prst="hexagon">
            <a:avLst>
              <a:gd name="adj" fmla="val 33982"/>
              <a:gd name="vf" fmla="val 115470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187280" y="1484280"/>
            <a:ext cx="6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4076640"/>
            <a:ext cx="792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or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25800" y="573264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aviga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72360" y="1413000"/>
            <a:ext cx="936360" cy="863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283440" y="1484280"/>
            <a:ext cx="115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59320" y="1943640"/>
            <a:ext cx="3123720" cy="2659680"/>
            <a:chOff x="1759320" y="1943640"/>
            <a:chExt cx="3123720" cy="2659680"/>
          </a:xfrm>
        </p:grpSpPr>
        <p:grpSp>
          <p:nvGrpSpPr>
            <p:cNvPr id="251" name=""/>
            <p:cNvGrpSpPr/>
            <p:nvPr/>
          </p:nvGrpSpPr>
          <p:grpSpPr>
            <a:xfrm>
              <a:off x="1759320" y="1943640"/>
              <a:ext cx="3123720" cy="2659680"/>
              <a:chOff x="1759320" y="1943640"/>
              <a:chExt cx="3123720" cy="2659680"/>
            </a:xfrm>
          </p:grpSpPr>
          <p:sp>
            <p:nvSpPr>
              <p:cNvPr id="252" name=""/>
              <p:cNvSpPr/>
              <p:nvPr/>
            </p:nvSpPr>
            <p:spPr>
              <a:xfrm flipH="1" flipV="1">
                <a:off x="1963440" y="2330280"/>
                <a:ext cx="2919600" cy="2273040"/>
              </a:xfrm>
              <a:prstGeom prst="line">
                <a:avLst/>
              </a:prstGeom>
              <a:ln w="38160">
                <a:solidFill>
                  <a:srgbClr val="99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2273400">
                <a:off x="1792440" y="2072880"/>
                <a:ext cx="519840" cy="28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08762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0876239"/>
                  </a:path>
                </a:pathLst>
              </a:custGeom>
              <a:noFill/>
              <a:ln w="38160">
                <a:solidFill>
                  <a:srgbClr val="9966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2556000" y="328464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ff"/>
                  </a:solidFill>
                  <a:latin typeface="Arial"/>
                </a:rPr>
                <a:t>PG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158920" y="2116080"/>
            <a:ext cx="2735280" cy="2087640"/>
            <a:chOff x="2158920" y="2116080"/>
            <a:chExt cx="2735280" cy="2087640"/>
          </a:xfrm>
        </p:grpSpPr>
        <p:sp>
          <p:nvSpPr>
            <p:cNvPr id="256" name=""/>
            <p:cNvSpPr/>
            <p:nvPr/>
          </p:nvSpPr>
          <p:spPr>
            <a:xfrm>
              <a:off x="2158920" y="2116080"/>
              <a:ext cx="2735280" cy="2087640"/>
            </a:xfrm>
            <a:prstGeom prst="line">
              <a:avLst/>
            </a:prstGeom>
            <a:ln w="38160">
              <a:solidFill>
                <a:srgbClr val="ff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635280" y="285264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987640" y="6308640"/>
            <a:ext cx="57456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ff"/>
                </a:solidFill>
                <a:latin typeface="Arial"/>
              </a:rPr>
              <a:t>TG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51640" y="4797360"/>
            <a:ext cx="574560" cy="276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33ff"/>
                </a:solidFill>
                <a:latin typeface="Arial"/>
              </a:rPr>
              <a:t>PG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32000" y="4797360"/>
            <a:ext cx="1727280" cy="936720"/>
          </a:xfrm>
          <a:prstGeom prst="line">
            <a:avLst/>
          </a:prstGeom>
          <a:ln w="38160">
            <a:solidFill>
              <a:srgbClr val="00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62280" y="2276640"/>
            <a:ext cx="2124000" cy="2765160"/>
            <a:chOff x="4562280" y="2276640"/>
            <a:chExt cx="2124000" cy="2765160"/>
          </a:xfrm>
        </p:grpSpPr>
        <p:sp>
          <p:nvSpPr>
            <p:cNvPr id="262" name=""/>
            <p:cNvSpPr/>
            <p:nvPr/>
          </p:nvSpPr>
          <p:spPr>
            <a:xfrm flipH="1">
              <a:off x="5651280" y="2276640"/>
              <a:ext cx="1035000" cy="2376360"/>
            </a:xfrm>
            <a:prstGeom prst="line">
              <a:avLst/>
            </a:prstGeom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6871800">
              <a:off x="4767480" y="3937320"/>
              <a:ext cx="862200" cy="1006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1800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180059"/>
                </a:path>
              </a:pathLst>
            </a:cu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 flipH="1">
            <a:off x="3276720" y="4815000"/>
            <a:ext cx="2232000" cy="1295280"/>
          </a:xfrm>
          <a:prstGeom prst="line">
            <a:avLst/>
          </a:prstGeom>
          <a:ln w="3816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5003640" y="1931400"/>
            <a:ext cx="1798920" cy="2073600"/>
            <a:chOff x="5003640" y="1931400"/>
            <a:chExt cx="1798920" cy="2073600"/>
          </a:xfrm>
        </p:grpSpPr>
        <p:sp>
          <p:nvSpPr>
            <p:cNvPr id="266" name=""/>
            <p:cNvSpPr/>
            <p:nvPr/>
          </p:nvSpPr>
          <p:spPr>
            <a:xfrm flipV="1">
              <a:off x="5076720" y="2204640"/>
              <a:ext cx="1295640" cy="1800360"/>
            </a:xfrm>
            <a:prstGeom prst="line">
              <a:avLst/>
            </a:prstGeom>
            <a:ln w="38160">
              <a:solidFill>
                <a:srgbClr val="99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781400">
              <a:off x="6382800" y="1972440"/>
              <a:ext cx="307800" cy="53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4" y="11657"/>
                  </a:moveTo>
                  <a:arcTo wR="10800" hR="10800" stAng="10526841" swAng="11073159"/>
                  <a:lnTo>
                    <a:pt x="10800" y="10800"/>
                  </a:lnTo>
                  <a:close/>
                </a:path>
                <a:path fill="none" w="21600" h="21600">
                  <a:moveTo>
                    <a:pt x="34" y="11657"/>
                  </a:moveTo>
                  <a:arcTo wR="10800" hR="10800" stAng="10526841" swAng="11073159"/>
                </a:path>
              </a:pathLst>
            </a:custGeom>
            <a:noFill/>
            <a:ln w="38160">
              <a:solidFill>
                <a:srgbClr val="99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03640" y="2997360"/>
              <a:ext cx="57492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ff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98120" y="1547640"/>
            <a:ext cx="4673880" cy="645120"/>
            <a:chOff x="1698120" y="1547640"/>
            <a:chExt cx="4673880" cy="645120"/>
          </a:xfrm>
        </p:grpSpPr>
        <p:sp>
          <p:nvSpPr>
            <p:cNvPr id="270" name=""/>
            <p:cNvSpPr/>
            <p:nvPr/>
          </p:nvSpPr>
          <p:spPr>
            <a:xfrm>
              <a:off x="3924360" y="1916280"/>
              <a:ext cx="574560" cy="27648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1907640" y="1844640"/>
              <a:ext cx="4464360" cy="0"/>
            </a:xfrm>
            <a:prstGeom prst="line">
              <a:avLst/>
            </a:prstGeom>
            <a:ln w="3816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697760" y="1547640"/>
              <a:ext cx="443880" cy="29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949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949486"/>
                </a:path>
              </a:pathLst>
            </a:custGeom>
            <a:noFill/>
            <a:ln w="3816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1908000" y="1197000"/>
            <a:ext cx="4464360" cy="360360"/>
            <a:chOff x="1908000" y="1197000"/>
            <a:chExt cx="4464360" cy="360360"/>
          </a:xfrm>
        </p:grpSpPr>
        <p:sp>
          <p:nvSpPr>
            <p:cNvPr id="274" name=""/>
            <p:cNvSpPr/>
            <p:nvPr/>
          </p:nvSpPr>
          <p:spPr>
            <a:xfrm>
              <a:off x="1908000" y="1557360"/>
              <a:ext cx="4464360" cy="0"/>
            </a:xfrm>
            <a:prstGeom prst="line">
              <a:avLst/>
            </a:prstGeom>
            <a:ln w="38160">
              <a:solidFill>
                <a:srgbClr val="ff33cc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924360" y="1197000"/>
              <a:ext cx="574560" cy="2764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cc"/>
                  </a:solidFill>
                  <a:latin typeface="Arial"/>
                </a:rPr>
                <a:t>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4000" y="1197000"/>
            <a:ext cx="8424720" cy="47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Projet développé par l'Université de Y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AS Generic Handler est un mécanisme permettant d'utiliser et même de créer différents 'backends' pour le serveur 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http://esup-casgeneric.sourceforge.net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propose deux packages en téléchargemen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sup-cas-quickstar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AS Generic 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Intègre Tomc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Génère automatiquement des certificats auto sig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sup-cas-server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AS Generic Hand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11280" y="4653000"/>
            <a:ext cx="3384360" cy="194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Auth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7451640" y="1484280"/>
            <a:ext cx="1152360" cy="1723680"/>
            <a:chOff x="7451640" y="1484280"/>
            <a:chExt cx="1152360" cy="1723680"/>
          </a:xfrm>
        </p:grpSpPr>
        <p:pic>
          <p:nvPicPr>
            <p:cNvPr id="292" name="" descr=""/>
            <p:cNvPicPr/>
            <p:nvPr/>
          </p:nvPicPr>
          <p:blipFill>
            <a:blip r:embed="rId3"/>
            <a:stretch/>
          </p:blipFill>
          <p:spPr>
            <a:xfrm>
              <a:off x="7596000" y="1484280"/>
              <a:ext cx="858960" cy="103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7451640" y="256536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rveur HTT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451640" y="4869000"/>
            <a:ext cx="1152360" cy="1723320"/>
            <a:chOff x="7451640" y="4869000"/>
            <a:chExt cx="1152360" cy="1723320"/>
          </a:xfrm>
        </p:grpSpPr>
        <p:pic>
          <p:nvPicPr>
            <p:cNvPr id="295" name="" descr=""/>
            <p:cNvPicPr/>
            <p:nvPr/>
          </p:nvPicPr>
          <p:blipFill>
            <a:blip r:embed="rId4"/>
            <a:stretch/>
          </p:blipFill>
          <p:spPr>
            <a:xfrm>
              <a:off x="7596000" y="4869000"/>
              <a:ext cx="858960" cy="103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451640" y="5949720"/>
              <a:ext cx="115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rveur HTT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"/>
          <p:cNvGrpSpPr/>
          <p:nvPr/>
        </p:nvGrpSpPr>
        <p:grpSpPr>
          <a:xfrm>
            <a:off x="900000" y="1700280"/>
            <a:ext cx="2159280" cy="513000"/>
            <a:chOff x="900000" y="1700280"/>
            <a:chExt cx="2159280" cy="513000"/>
          </a:xfrm>
        </p:grpSpPr>
        <p:sp>
          <p:nvSpPr>
            <p:cNvPr id="298" name=""/>
            <p:cNvSpPr/>
            <p:nvPr/>
          </p:nvSpPr>
          <p:spPr>
            <a:xfrm>
              <a:off x="900000" y="1700280"/>
              <a:ext cx="2159280" cy="505080"/>
            </a:xfrm>
            <a:prstGeom prst="cube">
              <a:avLst>
                <a:gd name="adj" fmla="val 25000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00000" y="1845000"/>
              <a:ext cx="20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avigate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826920" y="4869000"/>
            <a:ext cx="2159280" cy="513000"/>
            <a:chOff x="826920" y="4869000"/>
            <a:chExt cx="2159280" cy="513000"/>
          </a:xfrm>
        </p:grpSpPr>
        <p:sp>
          <p:nvSpPr>
            <p:cNvPr id="301" name=""/>
            <p:cNvSpPr/>
            <p:nvPr/>
          </p:nvSpPr>
          <p:spPr>
            <a:xfrm>
              <a:off x="826920" y="4869000"/>
              <a:ext cx="2159280" cy="505080"/>
            </a:xfrm>
            <a:prstGeom prst="cube">
              <a:avLst>
                <a:gd name="adj" fmla="val 25000"/>
              </a:avLst>
            </a:prstGeom>
            <a:solidFill>
              <a:srgbClr val="ff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6920" y="5013720"/>
              <a:ext cx="2016360" cy="368280"/>
            </a:xfrm>
            <a:prstGeom prst="rect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611280" y="62373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achine Virtuelle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59280" y="1916280"/>
            <a:ext cx="4537080" cy="0"/>
          </a:xfrm>
          <a:prstGeom prst="line">
            <a:avLst/>
          </a:prstGeom>
          <a:ln w="28440">
            <a:solidFill>
              <a:srgbClr val="00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987640" y="5084640"/>
            <a:ext cx="4537080" cy="0"/>
          </a:xfrm>
          <a:prstGeom prst="line">
            <a:avLst/>
          </a:prstGeom>
          <a:ln w="28440">
            <a:solidFill>
              <a:srgbClr val="ff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484360" y="2133720"/>
            <a:ext cx="1224000" cy="1008000"/>
            <a:chOff x="2484360" y="2133720"/>
            <a:chExt cx="1224000" cy="1008000"/>
          </a:xfrm>
        </p:grpSpPr>
        <p:sp>
          <p:nvSpPr>
            <p:cNvPr id="307" name=""/>
            <p:cNvSpPr/>
            <p:nvPr/>
          </p:nvSpPr>
          <p:spPr>
            <a:xfrm>
              <a:off x="2484360" y="2133720"/>
              <a:ext cx="1224000" cy="1008000"/>
            </a:xfrm>
            <a:prstGeom prst="star5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" descr=""/>
            <p:cNvPicPr/>
            <p:nvPr/>
          </p:nvPicPr>
          <p:blipFill>
            <a:blip r:embed="rId5"/>
            <a:stretch/>
          </p:blipFill>
          <p:spPr>
            <a:xfrm>
              <a:off x="2959200" y="256536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 flipH="1">
            <a:off x="3132000" y="206064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900000" y="2205000"/>
            <a:ext cx="1079640" cy="1295280"/>
            <a:chOff x="900000" y="2205000"/>
            <a:chExt cx="1079640" cy="1295280"/>
          </a:xfrm>
        </p:grpSpPr>
        <p:sp>
          <p:nvSpPr>
            <p:cNvPr id="311" name=""/>
            <p:cNvSpPr/>
            <p:nvPr/>
          </p:nvSpPr>
          <p:spPr>
            <a:xfrm>
              <a:off x="900000" y="2205000"/>
              <a:ext cx="1079640" cy="129528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2" name="" descr=""/>
            <p:cNvPicPr/>
            <p:nvPr/>
          </p:nvPicPr>
          <p:blipFill>
            <a:blip r:embed="rId6"/>
            <a:stretch/>
          </p:blipFill>
          <p:spPr>
            <a:xfrm>
              <a:off x="1042920" y="234936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" descr=""/>
            <p:cNvPicPr/>
            <p:nvPr/>
          </p:nvPicPr>
          <p:blipFill>
            <a:blip r:embed="rId7"/>
            <a:stretch/>
          </p:blipFill>
          <p:spPr>
            <a:xfrm>
              <a:off x="1476360" y="234936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" descr=""/>
            <p:cNvPicPr/>
            <p:nvPr/>
          </p:nvPicPr>
          <p:blipFill>
            <a:blip r:embed="rId8"/>
            <a:stretch/>
          </p:blipFill>
          <p:spPr>
            <a:xfrm>
              <a:off x="1042920" y="270828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5" name="" descr=""/>
            <p:cNvPicPr/>
            <p:nvPr/>
          </p:nvPicPr>
          <p:blipFill>
            <a:blip r:embed="rId9"/>
            <a:stretch/>
          </p:blipFill>
          <p:spPr>
            <a:xfrm>
              <a:off x="1476360" y="270828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6" name="" descr=""/>
            <p:cNvPicPr/>
            <p:nvPr/>
          </p:nvPicPr>
          <p:blipFill>
            <a:blip r:embed="rId10"/>
            <a:stretch/>
          </p:blipFill>
          <p:spPr>
            <a:xfrm>
              <a:off x="1042920" y="306864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11"/>
            <a:stretch/>
          </p:blipFill>
          <p:spPr>
            <a:xfrm>
              <a:off x="1476360" y="3068640"/>
              <a:ext cx="30492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8" name=""/>
          <p:cNvGrpSpPr/>
          <p:nvPr/>
        </p:nvGrpSpPr>
        <p:grpSpPr>
          <a:xfrm>
            <a:off x="900000" y="5877000"/>
            <a:ext cx="2824200" cy="228600"/>
            <a:chOff x="900000" y="5877000"/>
            <a:chExt cx="2824200" cy="228600"/>
          </a:xfrm>
        </p:grpSpPr>
        <p:pic>
          <p:nvPicPr>
            <p:cNvPr id="319" name="" descr=""/>
            <p:cNvPicPr/>
            <p:nvPr/>
          </p:nvPicPr>
          <p:blipFill>
            <a:blip r:embed="rId12"/>
            <a:stretch/>
          </p:blipFill>
          <p:spPr>
            <a:xfrm>
              <a:off x="900000" y="587700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13"/>
            <a:stretch/>
          </p:blipFill>
          <p:spPr>
            <a:xfrm>
              <a:off x="1403280" y="587700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" descr=""/>
            <p:cNvPicPr/>
            <p:nvPr/>
          </p:nvPicPr>
          <p:blipFill>
            <a:blip r:embed="rId14"/>
            <a:stretch/>
          </p:blipFill>
          <p:spPr>
            <a:xfrm>
              <a:off x="1908000" y="587700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" descr=""/>
            <p:cNvPicPr/>
            <p:nvPr/>
          </p:nvPicPr>
          <p:blipFill>
            <a:blip r:embed="rId15"/>
            <a:stretch/>
          </p:blipFill>
          <p:spPr>
            <a:xfrm>
              <a:off x="2411280" y="5877000"/>
              <a:ext cx="30492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" descr=""/>
            <p:cNvPicPr/>
            <p:nvPr/>
          </p:nvPicPr>
          <p:blipFill>
            <a:blip r:embed="rId16"/>
            <a:stretch/>
          </p:blipFill>
          <p:spPr>
            <a:xfrm>
              <a:off x="2916360" y="5877000"/>
              <a:ext cx="3045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" descr=""/>
            <p:cNvPicPr/>
            <p:nvPr/>
          </p:nvPicPr>
          <p:blipFill>
            <a:blip r:embed="rId17"/>
            <a:stretch/>
          </p:blipFill>
          <p:spPr>
            <a:xfrm>
              <a:off x="3419640" y="5877000"/>
              <a:ext cx="304560" cy="22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5" name=""/>
          <p:cNvSpPr/>
          <p:nvPr/>
        </p:nvSpPr>
        <p:spPr>
          <a:xfrm flipH="1">
            <a:off x="3132000" y="5300640"/>
            <a:ext cx="4392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3851280" y="5157720"/>
            <a:ext cx="287280" cy="288720"/>
            <a:chOff x="3851280" y="5157720"/>
            <a:chExt cx="287280" cy="288720"/>
          </a:xfrm>
        </p:grpSpPr>
        <p:sp>
          <p:nvSpPr>
            <p:cNvPr id="327" name=""/>
            <p:cNvSpPr/>
            <p:nvPr/>
          </p:nvSpPr>
          <p:spPr>
            <a:xfrm>
              <a:off x="3851280" y="5157720"/>
              <a:ext cx="2872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851280" y="5157720"/>
              <a:ext cx="287280" cy="288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3302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Certific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233280" y="4665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uthen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8:09:34Z</dcterms:created>
  <dc:creator>Larchet</dc:creator>
  <dc:description/>
  <dc:language>en-US</dc:language>
  <cp:lastModifiedBy>cbissler</cp:lastModifiedBy>
  <dcterms:modified xsi:type="dcterms:W3CDTF">2005-10-21T11:53:51Z</dcterms:modified>
  <cp:revision>12</cp:revision>
  <dc:subject/>
  <dc:title>Diapositive 1</dc:title>
</cp:coreProperties>
</file>