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B883-1B44-4D74-934D-77260562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9887-73FA-48CF-B5BD-D877EB9F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20F-CC76-4623-9796-E0BCC17D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928-80CE-4511-8415-64C2AD73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8D2-9E86-47D5-9E20-B8972D7A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7B3-2E29-4D06-8F82-65343B6D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5E82-7489-4AB9-80CE-44B3B272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9FB-7E69-4BCD-88FF-2649C2BB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2A7F-027C-49CE-9CC5-E97ABC60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1D61-6C75-44A5-B048-10542A60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741-18F4-46A4-B6FE-1A4C24C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B87-8FCE-4ADB-A955-A71B4C7F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2DE5-AD4A-4340-A013-24B425EED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Administration_3_Interface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Architecture u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1125360"/>
            <a:ext cx="30956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uPortal_2-4-3-quick-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Ant_1-6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HSQL_1-7-2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Tomcat_5-0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uPortal_rel-2-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</a:rPr>
              <a:t>web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19640" y="1125360"/>
            <a:ext cx="540036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Distribution uPortal Quick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Distribution 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Distribution H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Distribution 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Distribution u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Classes compil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Fichiers de propriétés (configur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Fichiers source 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99ff"/>
                </a:solidFill>
                <a:latin typeface="Tahoma"/>
              </a:rPr>
              <a:t>images / fichiers XSL pour le rendu graph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Distribution u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810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Archit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roprié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âches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Fichiers de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112536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ldap.propertie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obsolè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ldap.xml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ource(s) de données LD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Logger.propertie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aramètrage des lo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ersonDirs.xml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récupération des attributs d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ortal.propertie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aramètres du portail (div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rdbm.propertie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connectivité JD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ecurity.propertie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authent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uPortal.xml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contexte 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al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fichiers de publication des fra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chanpub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fichiers de publication des can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fichiers d'initialisation de la bas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group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gestionnaires de grou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Distribution u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1810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rchit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Proprié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Tâches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410600" y="0"/>
            <a:ext cx="1733400" cy="6476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Tâches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1125360"/>
            <a:ext cx="8569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clean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upprime le répertoire build et le contexte Tomc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ploy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Compile puis déploie u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b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Initialise la bas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i18n-db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International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bunload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ump la base au format 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btest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Teste la connectivité à la base de donn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ubfragments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ublie un fichier de frag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md5passwd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Affecte un mot de passe à un utilis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deluser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Supprime un utilisat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ubchan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Publie un (ou tous les) cana(l)(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initportal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fr-FR" sz="1800" spc="-1" strike="noStrike">
                <a:solidFill>
                  <a:srgbClr val="000000"/>
                </a:solidFill>
                <a:latin typeface="Tahoma"/>
              </a:rPr>
              <a:t>Initialise la base, publie tous les canaux, publie les fragments par défaut, déploie les portl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Distribution u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8108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rchitec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Proprié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Tâches 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ite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bissler</cp:lastModifiedBy>
  <dcterms:modified xsi:type="dcterms:W3CDTF">2005-10-21T11:55:34Z</dcterms:modified>
  <cp:revision>12</cp:revision>
  <dc:subject/>
  <dc:title>PowerPoint Presentation</dc:title>
</cp:coreProperties>
</file>