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7032-766A-4D1B-89B8-6A098BB0A38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://www.eclipse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iroir pour les téléchargements : http://sunsite.informatik.rwth-aachen.de/eclipse/downlo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erspectives / V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e perspective est une collection de vues ayant trait à un thème comm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ci la perspective Java composée des vues suivante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diteur 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utline : vue logique de la classe cour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ackage explorer : vue des fichiers du proj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nt : vue des tâches 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gWatcher : vue du fichier de log de l'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nsole : évènements (compilation, déploiement, exécution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blems : erreurs et warning de compi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erspectives / V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ci la perspective Debug composée des vues suivante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diteur 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ariables : inspection des variables de la classe cour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bug : vue des threads et commandes d'exécution en mode pas à p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erspectives / V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Ici la perspective CVS composée des vues suivante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diteur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VS Repositories : explorateur de CV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VS Ressource History : historique des versions du fichier cour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4B33-47E0-4675-975B-4F17175FA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BCE4-86B9-458F-872D-31D67BC6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67C0-1533-4FA8-BD5B-7E929F75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82DE-07ED-4EF6-A94A-EF3A1019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65E8-89D9-4052-B3D1-D50E1E821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CA0C-4A68-454B-BEEC-A60A476E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ADCA-A1CE-4487-A98C-01D069D52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D765-4973-4BFB-93A5-C94A97A2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E217-61FF-45D3-AC58-4232B7D9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C56D-69D8-499C-B05B-C6F47F40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DA51-7345-4EA5-B818-AA133D2A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CD23-5CEF-4A55-9234-261601F9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78D19-1AB8-4A58-89B5-DE05014C08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Developpement_3_XML_XSL.ppt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3960" y="1197000"/>
            <a:ext cx="8366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Environnement de développement générique développé par I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Écris en Java (multi platefor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La version SDK fourni de nombreux outils pour le développement d'applications en Java, avec des fonctionnalités proches de JBui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Nombreuses possibilités d'extension via le mécanisme des plugi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Autres langages (PHP, C, C++, Cobol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Développement UML (rétro-conception, round-trip engineering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Utilitaires variés (éditeurs, visualiseurs de bases de données, lecture de mp3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Gratuit et open source (attention aux plugi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L’environnement de travail : Eclip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velopp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bug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64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 CV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5520" y="800280"/>
            <a:ext cx="441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Perspectives / Vues &gt; mode développ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826920" y="1125360"/>
            <a:ext cx="7490160" cy="5616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L’environnement de travail : Eclip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Développ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bug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64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 CV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826920" y="1125360"/>
            <a:ext cx="7490160" cy="56185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5520" y="800280"/>
            <a:ext cx="441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Perspectives / Vues &gt; mode débug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L’environnement de travail : Eclip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velopp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Débug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64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Le CV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826920" y="1125360"/>
            <a:ext cx="7490160" cy="5618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55520" y="800280"/>
            <a:ext cx="441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Perspectives / Vues &gt; mode CV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L’environnement de travail : Eclip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velopp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Débug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64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Le CV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uite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bissler</cp:lastModifiedBy>
  <dcterms:modified xsi:type="dcterms:W3CDTF">2005-10-21T12:11:29Z</dcterms:modified>
  <cp:revision>33</cp:revision>
  <dc:subject/>
  <dc:title>PowerPoint Presentation</dc:title>
</cp:coreProperties>
</file>