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0279-746E-40B1-B56C-61C58403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E64-6634-492E-AAF3-21FCAEF3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D5E9-52EE-418E-8C0D-69F383FBF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186A-6E1B-4965-A512-FF870636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F998-E91F-4AA0-A944-62F276DD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98AD-7ADF-46A4-B5C4-CC24BDCC2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4296-DE02-47A7-8974-0C2D1E9D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25A3-1FA0-4916-8149-ACCE9AED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FCD-3AB0-4234-A68B-A14DD18B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17D0-A967-43F2-844C-3CAB5B01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4FB8-470A-4FEF-88FA-9168884C1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5D8-7B04-44DF-8D2F-ED2EC2F6B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BF60-149C-4C2E-902F-93974B2B44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Fonction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s donn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Le framework M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1125360"/>
            <a:ext cx="8569080" cy="397692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Framework de conception de canaux complex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Implémente I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ossède son cycle de vie prop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ermet de déléguer le traitement d'une requête à la bonne classe (contrôleu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Utilise un fichier de configuration X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Simplifie l'accès à une ou plusieurs sources de données, indépendamment de leur type (JDBC ou pool Tomcat JND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Implémente ICache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Facilite les interactions avec le X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Facilite l'utilisation de canaux servants (MAG ou n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ermet de redéfinir un morceau d'une application existante en personnalisant certaines 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Fonctionn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1268280"/>
            <a:ext cx="8353440" cy="54007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755640" y="1125000"/>
            <a:ext cx="2665080" cy="1222920"/>
            <a:chOff x="755640" y="1125000"/>
            <a:chExt cx="2665080" cy="1222920"/>
          </a:xfrm>
        </p:grpSpPr>
        <p:grpSp>
          <p:nvGrpSpPr>
            <p:cNvPr id="53" name=""/>
            <p:cNvGrpSpPr/>
            <p:nvPr/>
          </p:nvGrpSpPr>
          <p:grpSpPr>
            <a:xfrm>
              <a:off x="755640" y="1916280"/>
              <a:ext cx="2665080" cy="431640"/>
              <a:chOff x="755640" y="1916280"/>
              <a:chExt cx="2665080" cy="431640"/>
            </a:xfrm>
          </p:grpSpPr>
          <p:sp>
            <p:nvSpPr>
              <p:cNvPr id="54" name=""/>
              <p:cNvSpPr/>
              <p:nvPr/>
            </p:nvSpPr>
            <p:spPr>
              <a:xfrm>
                <a:off x="755640" y="1916280"/>
                <a:ext cx="266508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28360" y="1987560"/>
                <a:ext cx="2519640" cy="307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</a:rPr>
                  <a:t>setRuntime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 flipV="1">
              <a:off x="2050920" y="1125000"/>
              <a:ext cx="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755640" y="2349360"/>
            <a:ext cx="2665080" cy="4392720"/>
            <a:chOff x="755640" y="2349360"/>
            <a:chExt cx="2665080" cy="4392720"/>
          </a:xfrm>
        </p:grpSpPr>
        <p:grpSp>
          <p:nvGrpSpPr>
            <p:cNvPr id="58" name=""/>
            <p:cNvGrpSpPr/>
            <p:nvPr/>
          </p:nvGrpSpPr>
          <p:grpSpPr>
            <a:xfrm>
              <a:off x="755640" y="5732640"/>
              <a:ext cx="2665080" cy="431640"/>
              <a:chOff x="755640" y="5732640"/>
              <a:chExt cx="2665080" cy="431640"/>
            </a:xfrm>
          </p:grpSpPr>
          <p:sp>
            <p:nvSpPr>
              <p:cNvPr id="59" name=""/>
              <p:cNvSpPr/>
              <p:nvPr/>
            </p:nvSpPr>
            <p:spPr>
              <a:xfrm>
                <a:off x="755640" y="5732640"/>
                <a:ext cx="266508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8360" y="5803920"/>
                <a:ext cx="2519640" cy="307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</a:rPr>
                  <a:t>render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 flipV="1">
              <a:off x="2050920" y="2349360"/>
              <a:ext cx="0" cy="33832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50920" y="6165720"/>
              <a:ext cx="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3419640" y="2133720"/>
            <a:ext cx="4392360" cy="3240000"/>
            <a:chOff x="3419640" y="2133720"/>
            <a:chExt cx="4392360" cy="3240000"/>
          </a:xfrm>
        </p:grpSpPr>
        <p:sp>
          <p:nvSpPr>
            <p:cNvPr id="64" name=""/>
            <p:cNvSpPr/>
            <p:nvPr/>
          </p:nvSpPr>
          <p:spPr>
            <a:xfrm>
              <a:off x="4572000" y="2492280"/>
              <a:ext cx="3240000" cy="2881440"/>
            </a:xfrm>
            <a:prstGeom prst="roundRect">
              <a:avLst>
                <a:gd name="adj" fmla="val 16667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3419640" y="2133720"/>
              <a:ext cx="2736720" cy="647640"/>
              <a:chOff x="3419640" y="2133720"/>
              <a:chExt cx="2736720" cy="647640"/>
            </a:xfrm>
          </p:grpSpPr>
          <p:sp>
            <p:nvSpPr>
              <p:cNvPr id="66" name=""/>
              <p:cNvSpPr/>
              <p:nvPr/>
            </p:nvSpPr>
            <p:spPr>
              <a:xfrm>
                <a:off x="3419640" y="2133720"/>
                <a:ext cx="273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156360" y="2133720"/>
                <a:ext cx="0" cy="64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" name=""/>
          <p:cNvGrpSpPr/>
          <p:nvPr/>
        </p:nvGrpSpPr>
        <p:grpSpPr>
          <a:xfrm>
            <a:off x="4859280" y="2781360"/>
            <a:ext cx="2665080" cy="431640"/>
            <a:chOff x="4859280" y="2781360"/>
            <a:chExt cx="2665080" cy="431640"/>
          </a:xfrm>
        </p:grpSpPr>
        <p:sp>
          <p:nvSpPr>
            <p:cNvPr id="69" name=""/>
            <p:cNvSpPr/>
            <p:nvPr/>
          </p:nvSpPr>
          <p:spPr>
            <a:xfrm>
              <a:off x="4859280" y="2781360"/>
              <a:ext cx="266508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32000" y="2852640"/>
              <a:ext cx="251964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ahoma"/>
                </a:rPr>
                <a:t>i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859280" y="3213000"/>
            <a:ext cx="2665080" cy="935280"/>
            <a:chOff x="4859280" y="3213000"/>
            <a:chExt cx="2665080" cy="935280"/>
          </a:xfrm>
        </p:grpSpPr>
        <p:grpSp>
          <p:nvGrpSpPr>
            <p:cNvPr id="72" name=""/>
            <p:cNvGrpSpPr/>
            <p:nvPr/>
          </p:nvGrpSpPr>
          <p:grpSpPr>
            <a:xfrm>
              <a:off x="4859280" y="3716280"/>
              <a:ext cx="2665080" cy="432000"/>
              <a:chOff x="4859280" y="3716280"/>
              <a:chExt cx="2665080" cy="432000"/>
            </a:xfrm>
          </p:grpSpPr>
          <p:sp>
            <p:nvSpPr>
              <p:cNvPr id="73" name=""/>
              <p:cNvSpPr/>
              <p:nvPr/>
            </p:nvSpPr>
            <p:spPr>
              <a:xfrm>
                <a:off x="4859280" y="3716280"/>
                <a:ext cx="26650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932000" y="3787920"/>
                <a:ext cx="2519640" cy="307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</a:rPr>
                  <a:t>set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6156360" y="321300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859280" y="4149720"/>
            <a:ext cx="2665080" cy="934920"/>
            <a:chOff x="4859280" y="4149720"/>
            <a:chExt cx="2665080" cy="934920"/>
          </a:xfrm>
        </p:grpSpPr>
        <p:grpSp>
          <p:nvGrpSpPr>
            <p:cNvPr id="77" name=""/>
            <p:cNvGrpSpPr/>
            <p:nvPr/>
          </p:nvGrpSpPr>
          <p:grpSpPr>
            <a:xfrm>
              <a:off x="4859280" y="4653000"/>
              <a:ext cx="2665080" cy="431640"/>
              <a:chOff x="4859280" y="4653000"/>
              <a:chExt cx="2665080" cy="431640"/>
            </a:xfrm>
          </p:grpSpPr>
          <p:sp>
            <p:nvSpPr>
              <p:cNvPr id="78" name=""/>
              <p:cNvSpPr/>
              <p:nvPr/>
            </p:nvSpPr>
            <p:spPr>
              <a:xfrm>
                <a:off x="4859280" y="4653000"/>
                <a:ext cx="266508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932000" y="4724280"/>
                <a:ext cx="2519640" cy="307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</a:rPr>
                  <a:t>setOutpu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6156360" y="414972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419280" y="2276280"/>
            <a:ext cx="1440000" cy="2592720"/>
            <a:chOff x="3419280" y="2276280"/>
            <a:chExt cx="1440000" cy="2592720"/>
          </a:xfrm>
        </p:grpSpPr>
        <p:sp>
          <p:nvSpPr>
            <p:cNvPr id="82" name=""/>
            <p:cNvSpPr/>
            <p:nvPr/>
          </p:nvSpPr>
          <p:spPr>
            <a:xfrm flipH="1">
              <a:off x="4284720" y="2997360"/>
              <a:ext cx="574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4284720" y="3933720"/>
              <a:ext cx="574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4284720" y="4869000"/>
              <a:ext cx="574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284720" y="2276280"/>
              <a:ext cx="0" cy="2592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3419280" y="2276640"/>
              <a:ext cx="8650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s donn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Le framework M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Classes princip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1125360"/>
            <a:ext cx="8569080" cy="533268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MainChannel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Implémente IChannel, ICacheable, IMime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setRuntimeData : détermine l'action en cours, l'instancie dynamiquement et appelle les méthodes init, setXML et setOutput séquentiel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renderXML : réalise la transformation XSL en s'appuyant sur les informations de l'action cour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ConfigChannel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Réalise la lecture de la configuration propre au MA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Classe abstraite à étendre et à implémenter sous la forme d'un single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ermet la lecture de la partie propre à l'application de la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ermet d'ouvrir des connexions vers les sources de données définies dans la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SubChannel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Implémentation de référence de ISub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Implémente un comportement par défa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Toutes les actions doivent étendre cette classe ou implémenter ISub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s donn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Le framework M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Plu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0920" y="1125360"/>
            <a:ext cx="8569080" cy="490644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Messag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Affiche un ou plusieurs messages (erreur, warning, inform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Éventuellement, redirige vers une autre 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Éventuellement, passe des paramètres à l'action suiv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Confirm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Affiche une question avec un choix Oui / N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Transmets la réponse à une 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Traite la réponse et appelle des actions différentes suivant le cho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Éventuellement, passe des paramètres (différents) à l'action suiv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Les appels sont statiqu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Message.message(mainChannel, runtimeData, "Une erreur s'est produite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return Boolean.FALS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Plu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s donn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Le framework M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Fichier de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1125360"/>
            <a:ext cx="8569080" cy="541440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actions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action name="default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classname="org.esupportail.portal.channels.CMag.actions.DefaultAction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xslfile="Default.xsl" /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action name="about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classname=" org.esupportail.portal.channels.CMag.actions.DefaultAction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init="aboutinit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setxml="aboutxm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setoutput="aboutoutput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sslfile="About.ss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ssltitle="normal" /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action name="annuaire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type="servant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classname="org.esupportail.portal.channels.CAnnuaire.AnnuaireServant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servantfinish="default" /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/actions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s donn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Le framework M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Accès aux donn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0920" y="1125360"/>
            <a:ext cx="8569080" cy="420912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pools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pool name="default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type="JNDI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url="PortalDB" /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pool name="mysql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type="JDBC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url="jdbc:mysql://mysql.univ.fr/MaBase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driverClassName="com.mysql.jdbc.Driver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username="mysqluser"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password="password" /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/pools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Les donn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Le framework M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1125360"/>
            <a:ext cx="8569080" cy="541440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Query query = Config.getInstance().getConnexionDefault(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ou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Query query = Config.getInstance().getConnexion("mysql"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String sql = "SELECT * FROM APP_USERS WHERE NAME_USER = 'toto'"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try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query.setSql(sql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query.select(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ResultSet rs = query.getRs(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while(rs.next())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String username = rs.getString("NAME_USER"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query.close(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catch(SQLException e)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query.close(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throw new Exception(e.getMessage())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Les donn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Le framework M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Accès aux donn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bissler</cp:lastModifiedBy>
  <dcterms:modified xsi:type="dcterms:W3CDTF">2005-01-07T10:40:02Z</dcterms:modified>
  <cp:revision>33</cp:revision>
  <dc:subject/>
  <dc:title>PowerPoint Presentation</dc:title>
</cp:coreProperties>
</file>