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AB57-D8A4-4354-9EF2-B44257F82C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terfaces de program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terfaces de program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Channel – Cycle de 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terfaces de program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Privileged – IPrivileged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terfaces de program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Multithreaded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tile pour réaliser des canaux peu coûteux pour lesquels l'utilisateur courant n'influence pas le comportement du ca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terfaces de program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Ser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terfaces de program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Cach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terfaces de program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Cacheable – Cycle de 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terfaces de program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Mime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nterfaces de program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MimeResponse – Cycle de v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023A-8117-4466-9ABE-A1B0FE64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7DF5-04B9-4F93-AC70-FC5B6EC2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7B7-D520-43B0-9541-8D3ED26B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E54-3903-46AF-9F48-C57F538A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2658-3053-408A-8BFE-5C5C45B6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C600-2CBA-413E-8AC1-7FED70B5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548A-25DC-4A46-841A-8DC7FF77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199-B7CB-4B6E-8F24-18FF40510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F03F-EB65-46B6-B3AC-D7F21E9F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325-582B-4F9C-A6E5-A7062F31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9DA9-19C6-43A3-AE49-2D07BAAA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8998-EB0B-4803-BF8B-B7576DBA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89E4-6655-4EBB-8092-348688C6F7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Developpement_6_Quelques_exemples.ppt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I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Privile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ultithr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Ser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Cach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ime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Type custom : les interfaces de program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1125360"/>
            <a:ext cx="8569080" cy="561852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Channel : canal standard, statef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5 méthodes à implémente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void setStaticData(ChannelStaticData s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void setRuntimeData(ChannelRuntimeData 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void receiveEvent(PortalEvent 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ChannelRuntimeProperties getRuntimePropertie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void renderXML(ContentHandler o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Une implémentation de référence à étendre : Base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hannelStaticData : contient les données statiques du canal, son identifiant, un objet contenant les attributs de la personne connectée et un objet permettant d'accéder au contexte applicati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hannelRuntimeData : contient les données dynamiques du canal, c'est-à-dire les paramètres envoyés en POST ou en GET par le navigateur, l'URL de base du canal, l'URL de base des media, l'URL de base du worker de downlo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hannelRuntimeProperties : indique au framework si il faut ou pas effectuer le rendu du ca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167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50920" y="1125360"/>
            <a:ext cx="8569080" cy="45237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Dans le code Java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L'objet XSLT propose 3 méthodes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setStylesheetParameter(String, String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setStylesheetParameters(Hashmap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setStylesheetParameters(Hashtabl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xslt.setStylesheetParameter("paramname", "paramvalue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Dans le code XSL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param name="paramname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a href="http://www.toto.fr?param=${paramname}"&gt;lien&lt;/a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Privile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ultithr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Ser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Cach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56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ime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Type custom : les interfaces de program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4167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ite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2565360"/>
            <a:ext cx="8353440" cy="410364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203640" y="1341360"/>
            <a:ext cx="2665080" cy="719280"/>
            <a:chOff x="3203640" y="1341360"/>
            <a:chExt cx="2665080" cy="719280"/>
          </a:xfrm>
        </p:grpSpPr>
        <p:grpSp>
          <p:nvGrpSpPr>
            <p:cNvPr id="61" name=""/>
            <p:cNvGrpSpPr/>
            <p:nvPr/>
          </p:nvGrpSpPr>
          <p:grpSpPr>
            <a:xfrm>
              <a:off x="3203640" y="1628640"/>
              <a:ext cx="2665080" cy="432000"/>
              <a:chOff x="3203640" y="1628640"/>
              <a:chExt cx="2665080" cy="432000"/>
            </a:xfrm>
          </p:grpSpPr>
          <p:sp>
            <p:nvSpPr>
              <p:cNvPr id="62" name=""/>
              <p:cNvSpPr/>
              <p:nvPr/>
            </p:nvSpPr>
            <p:spPr>
              <a:xfrm>
                <a:off x="3203640" y="1628640"/>
                <a:ext cx="2665080" cy="43200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276360" y="1700280"/>
                <a:ext cx="251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setStatic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3348000" y="1341360"/>
              <a:ext cx="23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ahoma"/>
                </a:rPr>
                <a:t>instanc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39640" y="2060640"/>
            <a:ext cx="2665080" cy="1728720"/>
            <a:chOff x="539640" y="2060640"/>
            <a:chExt cx="2665080" cy="1728720"/>
          </a:xfrm>
        </p:grpSpPr>
        <p:grpSp>
          <p:nvGrpSpPr>
            <p:cNvPr id="66" name=""/>
            <p:cNvGrpSpPr/>
            <p:nvPr/>
          </p:nvGrpSpPr>
          <p:grpSpPr>
            <a:xfrm>
              <a:off x="539640" y="3357720"/>
              <a:ext cx="2665080" cy="431640"/>
              <a:chOff x="539640" y="3357720"/>
              <a:chExt cx="2665080" cy="431640"/>
            </a:xfrm>
          </p:grpSpPr>
          <p:sp>
            <p:nvSpPr>
              <p:cNvPr id="67" name=""/>
              <p:cNvSpPr/>
              <p:nvPr/>
            </p:nvSpPr>
            <p:spPr>
              <a:xfrm>
                <a:off x="539640" y="3357720"/>
                <a:ext cx="266508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12360" y="342900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receiveEv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1763640" y="2349360"/>
              <a:ext cx="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11280" y="2060640"/>
              <a:ext cx="23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ahoma"/>
                </a:rPr>
                <a:t>Évènement portai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5940360" y="2060640"/>
            <a:ext cx="2665080" cy="1728720"/>
            <a:chOff x="5940360" y="2060640"/>
            <a:chExt cx="2665080" cy="1728720"/>
          </a:xfrm>
        </p:grpSpPr>
        <p:grpSp>
          <p:nvGrpSpPr>
            <p:cNvPr id="72" name=""/>
            <p:cNvGrpSpPr/>
            <p:nvPr/>
          </p:nvGrpSpPr>
          <p:grpSpPr>
            <a:xfrm>
              <a:off x="5940360" y="3357720"/>
              <a:ext cx="2665080" cy="431640"/>
              <a:chOff x="5940360" y="3357720"/>
              <a:chExt cx="2665080" cy="431640"/>
            </a:xfrm>
          </p:grpSpPr>
          <p:sp>
            <p:nvSpPr>
              <p:cNvPr id="73" name=""/>
              <p:cNvSpPr/>
              <p:nvPr/>
            </p:nvSpPr>
            <p:spPr>
              <a:xfrm>
                <a:off x="5940360" y="3357720"/>
                <a:ext cx="266508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013080" y="342900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setRuntime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7308720" y="2349360"/>
              <a:ext cx="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84720" y="2060640"/>
              <a:ext cx="23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ahoma"/>
                </a:rPr>
                <a:t>POST ou 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763640" y="3789360"/>
            <a:ext cx="5545080" cy="1295280"/>
            <a:chOff x="1763640" y="3789360"/>
            <a:chExt cx="5545080" cy="1295280"/>
          </a:xfrm>
        </p:grpSpPr>
        <p:grpSp>
          <p:nvGrpSpPr>
            <p:cNvPr id="78" name=""/>
            <p:cNvGrpSpPr/>
            <p:nvPr/>
          </p:nvGrpSpPr>
          <p:grpSpPr>
            <a:xfrm>
              <a:off x="3203640" y="4653000"/>
              <a:ext cx="2665080" cy="431640"/>
              <a:chOff x="3203640" y="4653000"/>
              <a:chExt cx="2665080" cy="431640"/>
            </a:xfrm>
          </p:grpSpPr>
          <p:sp>
            <p:nvSpPr>
              <p:cNvPr id="79" name=""/>
              <p:cNvSpPr/>
              <p:nvPr/>
            </p:nvSpPr>
            <p:spPr>
              <a:xfrm>
                <a:off x="3203640" y="4653000"/>
                <a:ext cx="266508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276360" y="472428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getRuntimeProperti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1763640" y="378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763640" y="4149720"/>
              <a:ext cx="16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419640" y="414972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51640" y="414972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651640" y="4149720"/>
              <a:ext cx="16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08720" y="378936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3203640" y="5084640"/>
            <a:ext cx="3744720" cy="1657440"/>
            <a:chOff x="3203640" y="5084640"/>
            <a:chExt cx="3744720" cy="1657440"/>
          </a:xfrm>
        </p:grpSpPr>
        <p:grpSp>
          <p:nvGrpSpPr>
            <p:cNvPr id="88" name=""/>
            <p:cNvGrpSpPr/>
            <p:nvPr/>
          </p:nvGrpSpPr>
          <p:grpSpPr>
            <a:xfrm>
              <a:off x="3203640" y="5877000"/>
              <a:ext cx="2665080" cy="431640"/>
              <a:chOff x="3203640" y="5877000"/>
              <a:chExt cx="2665080" cy="431640"/>
            </a:xfrm>
          </p:grpSpPr>
          <p:sp>
            <p:nvSpPr>
              <p:cNvPr id="89" name=""/>
              <p:cNvSpPr/>
              <p:nvPr/>
            </p:nvSpPr>
            <p:spPr>
              <a:xfrm>
                <a:off x="3203640" y="5877000"/>
                <a:ext cx="266508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276360" y="594828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render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4500720" y="508464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0" y="5300640"/>
              <a:ext cx="23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00720" y="6308640"/>
              <a:ext cx="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Privile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ultithr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Ser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Cach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56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ime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Type custom : les interfaces de program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I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167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1125360"/>
            <a:ext cx="8569080" cy="3439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Privileged : canal privilégi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1 seule méthode à implémente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void setPortalControlStructures(PortalControlStructures pc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Aucune implémentation de réfé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PrivilegedChannel : hérite de IChannel et de IPrivileged </a:t>
            </a:r>
            <a:r>
              <a:rPr b="1" lang="fr-FR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6 méthodes à implém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ortalControlStructures : objet permettant d'accéder en lecture et en écriture aux objets HTTPServletRequest, HTTPServlet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IPrivile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ultithr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Ser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Cach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ime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Type custom : les interfaces de program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4167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1125360"/>
            <a:ext cx="8569080" cy="465480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MultithreadedChannel : canal standard, statel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5 méthodes à implémente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void setStaticData(ChannelStaticData sd, String ui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void setRuntimeData(ChannelRuntimeData rd, String ui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void receiveEvent(PortalEvent ev, String ui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ChannelRuntimeProperties getRuntimeProperties(String ui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void renderXML(ContentHandler out, String ui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Une implémentation de référence à étendre : BaseMultithreaded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uid est une chaîne de caractères permettant d'identifier l'instance de canal en cours d'exécu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BaseMultithreadedChannel propose une variable statique et des méthodes permettant de sauvegarder l'état de chaque instance de canal dans des Hashmap synchronisé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Privile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IMultithr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Ser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Cach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6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ime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Type custom : les interfaces de program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167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0920" y="1125360"/>
            <a:ext cx="8569080" cy="332820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Servant : canal escla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2 méthodes à implémente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boolean isFinished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Object [] getResult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Aucune implémentation de réfé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ermet l'utilisation du canal en mode esclave par un autre canal. Le canal appelant reprend automatiquement la main lorsque isFinished retourne 'true' et si le canal esclave a produit des résultats, le canal appelant peut les récupérer en appelant la méthode get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Privile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ultithr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ISer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Cach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56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ime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Type custom : les interfaces de program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167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50920" y="1125360"/>
            <a:ext cx="8569080" cy="473688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Cacheable : canal standard, gestion d'un 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2 méthodes à implémente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ChannelCacheKey generateKey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boolean isCacheValid(Object validit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Aucune implémentation de réfé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Suivant le type d'objet que l'on place dans le cache, on va pouvoir réaliser différents types de cach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ache temporel (l'objet contient une heure / d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ache utilisateur (l'objet contient le login utilisat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ache canal (l'objet contient le channelI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Cache applicatif (l'objet contient le nom de l'appli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Privile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ultithr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Ser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ICach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56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ime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Type custom : les interfaces de program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167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1268280"/>
            <a:ext cx="8353440" cy="54007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55640" y="4797000"/>
            <a:ext cx="2665080" cy="1945080"/>
            <a:chOff x="755640" y="4797000"/>
            <a:chExt cx="2665080" cy="1945080"/>
          </a:xfrm>
        </p:grpSpPr>
        <p:grpSp>
          <p:nvGrpSpPr>
            <p:cNvPr id="145" name=""/>
            <p:cNvGrpSpPr/>
            <p:nvPr/>
          </p:nvGrpSpPr>
          <p:grpSpPr>
            <a:xfrm>
              <a:off x="755640" y="5589720"/>
              <a:ext cx="2665080" cy="431640"/>
              <a:chOff x="755640" y="5589720"/>
              <a:chExt cx="2665080" cy="431640"/>
            </a:xfrm>
          </p:grpSpPr>
          <p:sp>
            <p:nvSpPr>
              <p:cNvPr id="146" name=""/>
              <p:cNvSpPr/>
              <p:nvPr/>
            </p:nvSpPr>
            <p:spPr>
              <a:xfrm>
                <a:off x="755640" y="5589720"/>
                <a:ext cx="266508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28360" y="566100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generateKe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050920" y="6021360"/>
              <a:ext cx="0" cy="72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050920" y="479700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755640" y="3573000"/>
            <a:ext cx="2665080" cy="1224360"/>
            <a:chOff x="755640" y="3573000"/>
            <a:chExt cx="2665080" cy="1224360"/>
          </a:xfrm>
        </p:grpSpPr>
        <p:grpSp>
          <p:nvGrpSpPr>
            <p:cNvPr id="151" name=""/>
            <p:cNvGrpSpPr/>
            <p:nvPr/>
          </p:nvGrpSpPr>
          <p:grpSpPr>
            <a:xfrm>
              <a:off x="755640" y="4365720"/>
              <a:ext cx="2665080" cy="431640"/>
              <a:chOff x="755640" y="4365720"/>
              <a:chExt cx="2665080" cy="431640"/>
            </a:xfrm>
          </p:grpSpPr>
          <p:sp>
            <p:nvSpPr>
              <p:cNvPr id="152" name=""/>
              <p:cNvSpPr/>
              <p:nvPr/>
            </p:nvSpPr>
            <p:spPr>
              <a:xfrm>
                <a:off x="755640" y="4365720"/>
                <a:ext cx="266508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28360" y="443700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render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 flipV="1">
              <a:off x="2050920" y="357300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55640" y="2349000"/>
            <a:ext cx="2665080" cy="1224360"/>
            <a:chOff x="755640" y="2349000"/>
            <a:chExt cx="2665080" cy="1224360"/>
          </a:xfrm>
        </p:grpSpPr>
        <p:grpSp>
          <p:nvGrpSpPr>
            <p:cNvPr id="156" name=""/>
            <p:cNvGrpSpPr/>
            <p:nvPr/>
          </p:nvGrpSpPr>
          <p:grpSpPr>
            <a:xfrm>
              <a:off x="755640" y="3141720"/>
              <a:ext cx="2665080" cy="431640"/>
              <a:chOff x="755640" y="3141720"/>
              <a:chExt cx="2665080" cy="431640"/>
            </a:xfrm>
          </p:grpSpPr>
          <p:sp>
            <p:nvSpPr>
              <p:cNvPr id="157" name=""/>
              <p:cNvSpPr/>
              <p:nvPr/>
            </p:nvSpPr>
            <p:spPr>
              <a:xfrm>
                <a:off x="755640" y="3141720"/>
                <a:ext cx="266508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28360" y="321300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generateKe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 flipV="1">
              <a:off x="2050920" y="234900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55640" y="1125000"/>
            <a:ext cx="2665080" cy="1222920"/>
            <a:chOff x="755640" y="1125000"/>
            <a:chExt cx="2665080" cy="1222920"/>
          </a:xfrm>
        </p:grpSpPr>
        <p:grpSp>
          <p:nvGrpSpPr>
            <p:cNvPr id="161" name=""/>
            <p:cNvGrpSpPr/>
            <p:nvPr/>
          </p:nvGrpSpPr>
          <p:grpSpPr>
            <a:xfrm>
              <a:off x="755640" y="1916280"/>
              <a:ext cx="2665080" cy="431640"/>
              <a:chOff x="755640" y="1916280"/>
              <a:chExt cx="2665080" cy="431640"/>
            </a:xfrm>
          </p:grpSpPr>
          <p:sp>
            <p:nvSpPr>
              <p:cNvPr id="162" name=""/>
              <p:cNvSpPr/>
              <p:nvPr/>
            </p:nvSpPr>
            <p:spPr>
              <a:xfrm>
                <a:off x="755640" y="1916280"/>
                <a:ext cx="266508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8360" y="198756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setRuntime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V="1">
              <a:off x="2050920" y="112500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146560" y="1125000"/>
            <a:ext cx="2665080" cy="1222920"/>
            <a:chOff x="5146560" y="1125000"/>
            <a:chExt cx="2665080" cy="1222920"/>
          </a:xfrm>
        </p:grpSpPr>
        <p:grpSp>
          <p:nvGrpSpPr>
            <p:cNvPr id="166" name=""/>
            <p:cNvGrpSpPr/>
            <p:nvPr/>
          </p:nvGrpSpPr>
          <p:grpSpPr>
            <a:xfrm>
              <a:off x="5146560" y="1916280"/>
              <a:ext cx="2665080" cy="431640"/>
              <a:chOff x="5146560" y="1916280"/>
              <a:chExt cx="2665080" cy="431640"/>
            </a:xfrm>
          </p:grpSpPr>
          <p:sp>
            <p:nvSpPr>
              <p:cNvPr id="167" name=""/>
              <p:cNvSpPr/>
              <p:nvPr/>
            </p:nvSpPr>
            <p:spPr>
              <a:xfrm>
                <a:off x="5146560" y="1916280"/>
                <a:ext cx="266508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9280" y="198756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setRuntime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 flipV="1">
              <a:off x="6442200" y="112500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146560" y="2349000"/>
            <a:ext cx="2665080" cy="1224360"/>
            <a:chOff x="5146560" y="2349000"/>
            <a:chExt cx="2665080" cy="1224360"/>
          </a:xfrm>
        </p:grpSpPr>
        <p:grpSp>
          <p:nvGrpSpPr>
            <p:cNvPr id="171" name=""/>
            <p:cNvGrpSpPr/>
            <p:nvPr/>
          </p:nvGrpSpPr>
          <p:grpSpPr>
            <a:xfrm>
              <a:off x="5146560" y="3141720"/>
              <a:ext cx="2665080" cy="431640"/>
              <a:chOff x="5146560" y="3141720"/>
              <a:chExt cx="2665080" cy="431640"/>
            </a:xfrm>
          </p:grpSpPr>
          <p:sp>
            <p:nvSpPr>
              <p:cNvPr id="172" name=""/>
              <p:cNvSpPr/>
              <p:nvPr/>
            </p:nvSpPr>
            <p:spPr>
              <a:xfrm>
                <a:off x="5146560" y="3141720"/>
                <a:ext cx="266508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219280" y="321300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generateKe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 flipV="1">
              <a:off x="6442200" y="234900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146560" y="3573000"/>
            <a:ext cx="2665080" cy="1224360"/>
            <a:chOff x="5146560" y="3573000"/>
            <a:chExt cx="2665080" cy="1224360"/>
          </a:xfrm>
        </p:grpSpPr>
        <p:grpSp>
          <p:nvGrpSpPr>
            <p:cNvPr id="176" name=""/>
            <p:cNvGrpSpPr/>
            <p:nvPr/>
          </p:nvGrpSpPr>
          <p:grpSpPr>
            <a:xfrm>
              <a:off x="5146560" y="4365720"/>
              <a:ext cx="2665080" cy="431640"/>
              <a:chOff x="5146560" y="4365720"/>
              <a:chExt cx="2665080" cy="431640"/>
            </a:xfrm>
          </p:grpSpPr>
          <p:sp>
            <p:nvSpPr>
              <p:cNvPr id="177" name=""/>
              <p:cNvSpPr/>
              <p:nvPr/>
            </p:nvSpPr>
            <p:spPr>
              <a:xfrm>
                <a:off x="5146560" y="4365720"/>
                <a:ext cx="266508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219280" y="443700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isCacheVali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 flipV="1">
              <a:off x="6442200" y="357300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6443640" y="4797360"/>
            <a:ext cx="2449440" cy="1944720"/>
            <a:chOff x="6443640" y="4797360"/>
            <a:chExt cx="2449440" cy="1944720"/>
          </a:xfrm>
        </p:grpSpPr>
        <p:sp>
          <p:nvSpPr>
            <p:cNvPr id="181" name=""/>
            <p:cNvSpPr/>
            <p:nvPr/>
          </p:nvSpPr>
          <p:spPr>
            <a:xfrm>
              <a:off x="6443640" y="4797360"/>
              <a:ext cx="0" cy="19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516720" y="4869000"/>
              <a:ext cx="23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419640" y="4221000"/>
            <a:ext cx="3673440" cy="360360"/>
            <a:chOff x="3419640" y="4221000"/>
            <a:chExt cx="3673440" cy="360360"/>
          </a:xfrm>
        </p:grpSpPr>
        <p:sp>
          <p:nvSpPr>
            <p:cNvPr id="184" name=""/>
            <p:cNvSpPr/>
            <p:nvPr/>
          </p:nvSpPr>
          <p:spPr>
            <a:xfrm flipH="1">
              <a:off x="3419640" y="4581360"/>
              <a:ext cx="17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16360" y="4221000"/>
              <a:ext cx="23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Privile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ultithr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Ser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ICach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56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ime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Type custom : les interfaces de program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4167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250920" y="1125360"/>
            <a:ext cx="8569080" cy="42285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IMimeResponse : téléchargement de fich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6 méthodes à implémenter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String getContentTyp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InputStream getInputStream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void downloadData(OutputStream o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fr-FR" sz="1400" spc="-1" strike="noStrike">
                <a:solidFill>
                  <a:srgbClr val="000000"/>
                </a:solidFill>
                <a:latin typeface="Tahoma"/>
              </a:rPr>
              <a:t>public String getNam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Map getHeaders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ublic void reportDownloadError(Exception 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Aucune implémentation de référ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Permet le téléchargement d'un fichier du portail vers le navigateur du 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Privile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ultithr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Ser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Cach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56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IMime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Type custom : les interfaces de program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4167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95280" y="1268280"/>
            <a:ext cx="8353440" cy="54007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755640" y="2349360"/>
            <a:ext cx="2665080" cy="935280"/>
            <a:chOff x="755640" y="2349360"/>
            <a:chExt cx="2665080" cy="935280"/>
          </a:xfrm>
        </p:grpSpPr>
        <p:grpSp>
          <p:nvGrpSpPr>
            <p:cNvPr id="207" name=""/>
            <p:cNvGrpSpPr/>
            <p:nvPr/>
          </p:nvGrpSpPr>
          <p:grpSpPr>
            <a:xfrm>
              <a:off x="755640" y="2852640"/>
              <a:ext cx="2665080" cy="432000"/>
              <a:chOff x="755640" y="2852640"/>
              <a:chExt cx="2665080" cy="432000"/>
            </a:xfrm>
          </p:grpSpPr>
          <p:sp>
            <p:nvSpPr>
              <p:cNvPr id="208" name=""/>
              <p:cNvSpPr/>
              <p:nvPr/>
            </p:nvSpPr>
            <p:spPr>
              <a:xfrm>
                <a:off x="755640" y="2852640"/>
                <a:ext cx="266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28360" y="292428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getHeader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 flipV="1">
              <a:off x="2050920" y="234936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755640" y="1125000"/>
            <a:ext cx="2665080" cy="1222920"/>
            <a:chOff x="755640" y="1125000"/>
            <a:chExt cx="2665080" cy="1222920"/>
          </a:xfrm>
        </p:grpSpPr>
        <p:grpSp>
          <p:nvGrpSpPr>
            <p:cNvPr id="212" name=""/>
            <p:cNvGrpSpPr/>
            <p:nvPr/>
          </p:nvGrpSpPr>
          <p:grpSpPr>
            <a:xfrm>
              <a:off x="755640" y="1916280"/>
              <a:ext cx="2665080" cy="431640"/>
              <a:chOff x="755640" y="1916280"/>
              <a:chExt cx="2665080" cy="431640"/>
            </a:xfrm>
          </p:grpSpPr>
          <p:sp>
            <p:nvSpPr>
              <p:cNvPr id="213" name=""/>
              <p:cNvSpPr/>
              <p:nvPr/>
            </p:nvSpPr>
            <p:spPr>
              <a:xfrm>
                <a:off x="755640" y="1916280"/>
                <a:ext cx="266508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28360" y="198756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setRuntimeDa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 flipV="1">
              <a:off x="2050920" y="1125000"/>
              <a:ext cx="0" cy="79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2050920" y="5157720"/>
            <a:ext cx="2376720" cy="1584360"/>
            <a:chOff x="2050920" y="5157720"/>
            <a:chExt cx="2376720" cy="1584360"/>
          </a:xfrm>
        </p:grpSpPr>
        <p:sp>
          <p:nvSpPr>
            <p:cNvPr id="217" name=""/>
            <p:cNvSpPr/>
            <p:nvPr/>
          </p:nvSpPr>
          <p:spPr>
            <a:xfrm>
              <a:off x="2050920" y="5157720"/>
              <a:ext cx="0" cy="158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050920" y="5229360"/>
              <a:ext cx="23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ahoma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55640" y="3284640"/>
            <a:ext cx="2665080" cy="936360"/>
            <a:chOff x="755640" y="3284640"/>
            <a:chExt cx="2665080" cy="936360"/>
          </a:xfrm>
        </p:grpSpPr>
        <p:grpSp>
          <p:nvGrpSpPr>
            <p:cNvPr id="220" name=""/>
            <p:cNvGrpSpPr/>
            <p:nvPr/>
          </p:nvGrpSpPr>
          <p:grpSpPr>
            <a:xfrm>
              <a:off x="755640" y="3789360"/>
              <a:ext cx="2665080" cy="431640"/>
              <a:chOff x="755640" y="3789360"/>
              <a:chExt cx="2665080" cy="4316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5640" y="3789360"/>
                <a:ext cx="2665080" cy="4316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28360" y="386064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getContentTyp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 flipV="1">
              <a:off x="2050920" y="328464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55640" y="4221000"/>
            <a:ext cx="2665080" cy="935280"/>
            <a:chOff x="755640" y="4221000"/>
            <a:chExt cx="2665080" cy="935280"/>
          </a:xfrm>
        </p:grpSpPr>
        <p:grpSp>
          <p:nvGrpSpPr>
            <p:cNvPr id="225" name=""/>
            <p:cNvGrpSpPr/>
            <p:nvPr/>
          </p:nvGrpSpPr>
          <p:grpSpPr>
            <a:xfrm>
              <a:off x="755640" y="4724280"/>
              <a:ext cx="2665080" cy="432000"/>
              <a:chOff x="755640" y="4724280"/>
              <a:chExt cx="2665080" cy="432000"/>
            </a:xfrm>
          </p:grpSpPr>
          <p:sp>
            <p:nvSpPr>
              <p:cNvPr id="226" name=""/>
              <p:cNvSpPr/>
              <p:nvPr/>
            </p:nvSpPr>
            <p:spPr>
              <a:xfrm>
                <a:off x="755640" y="4724280"/>
                <a:ext cx="266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28360" y="479592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getInputStrea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V="1">
              <a:off x="2050920" y="422100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3419640" y="4653000"/>
            <a:ext cx="4104720" cy="2089080"/>
            <a:chOff x="3419640" y="4653000"/>
            <a:chExt cx="4104720" cy="2089080"/>
          </a:xfrm>
        </p:grpSpPr>
        <p:grpSp>
          <p:nvGrpSpPr>
            <p:cNvPr id="230" name=""/>
            <p:cNvGrpSpPr/>
            <p:nvPr/>
          </p:nvGrpSpPr>
          <p:grpSpPr>
            <a:xfrm>
              <a:off x="3419640" y="4653000"/>
              <a:ext cx="2376360" cy="288720"/>
              <a:chOff x="3419640" y="4653000"/>
              <a:chExt cx="2376360" cy="288720"/>
            </a:xfrm>
          </p:grpSpPr>
          <p:sp>
            <p:nvSpPr>
              <p:cNvPr id="231" name=""/>
              <p:cNvSpPr/>
              <p:nvPr/>
            </p:nvSpPr>
            <p:spPr>
              <a:xfrm>
                <a:off x="3419640" y="4941720"/>
                <a:ext cx="143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419640" y="4653000"/>
                <a:ext cx="23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ahoma"/>
                  </a:rPr>
                  <a:t>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4859280" y="4724280"/>
              <a:ext cx="2665080" cy="2017800"/>
              <a:chOff x="4859280" y="4724280"/>
              <a:chExt cx="2665080" cy="2017800"/>
            </a:xfrm>
          </p:grpSpPr>
          <p:sp>
            <p:nvSpPr>
              <p:cNvPr id="234" name=""/>
              <p:cNvSpPr/>
              <p:nvPr/>
            </p:nvSpPr>
            <p:spPr>
              <a:xfrm>
                <a:off x="6156360" y="5157720"/>
                <a:ext cx="0" cy="158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4859280" y="4724280"/>
                <a:ext cx="2665080" cy="432000"/>
                <a:chOff x="4859280" y="4724280"/>
                <a:chExt cx="2665080" cy="43200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4859280" y="4724280"/>
                  <a:ext cx="2665080" cy="432000"/>
                </a:xfrm>
                <a:prstGeom prst="rect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932000" y="4795920"/>
                  <a:ext cx="2519640" cy="307080"/>
                </a:xfrm>
                <a:prstGeom prst="rect">
                  <a:avLst/>
                </a:prstGeom>
                <a:solidFill>
                  <a:srgbClr val="ff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400" spc="-1" strike="noStrike">
                      <a:solidFill>
                        <a:srgbClr val="000000"/>
                      </a:solidFill>
                      <a:latin typeface="Tahoma"/>
                    </a:rPr>
                    <a:t>download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38" name=""/>
          <p:cNvGrpSpPr/>
          <p:nvPr/>
        </p:nvGrpSpPr>
        <p:grpSpPr>
          <a:xfrm>
            <a:off x="4859280" y="2852640"/>
            <a:ext cx="4033440" cy="432000"/>
            <a:chOff x="4859280" y="2852640"/>
            <a:chExt cx="4033440" cy="432000"/>
          </a:xfrm>
        </p:grpSpPr>
        <p:sp>
          <p:nvSpPr>
            <p:cNvPr id="239" name=""/>
            <p:cNvSpPr/>
            <p:nvPr/>
          </p:nvSpPr>
          <p:spPr>
            <a:xfrm flipH="1">
              <a:off x="7524360" y="3068640"/>
              <a:ext cx="13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4859280" y="2852640"/>
              <a:ext cx="2665080" cy="432000"/>
              <a:chOff x="4859280" y="2852640"/>
              <a:chExt cx="2665080" cy="432000"/>
            </a:xfrm>
          </p:grpSpPr>
          <p:sp>
            <p:nvSpPr>
              <p:cNvPr id="241" name=""/>
              <p:cNvSpPr/>
              <p:nvPr/>
            </p:nvSpPr>
            <p:spPr>
              <a:xfrm>
                <a:off x="4859280" y="2852640"/>
                <a:ext cx="2665080" cy="4320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32000" y="2924280"/>
                <a:ext cx="2519640" cy="30708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400" spc="-1" strike="noStrike">
                    <a:solidFill>
                      <a:srgbClr val="000000"/>
                    </a:solidFill>
                    <a:latin typeface="Tahoma"/>
                  </a:rPr>
                  <a:t>reportDownloadErr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Privile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Multithrea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635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Serv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859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Cach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56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IMime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Type custom : les interfaces de programm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4167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Inter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bissler</cp:lastModifiedBy>
  <dcterms:modified xsi:type="dcterms:W3CDTF">2005-10-21T12:25:01Z</dcterms:modified>
  <cp:revision>33</cp:revision>
  <dc:subject/>
  <dc:title>PowerPoint Presentation</dc:title>
</cp:coreProperties>
</file>