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0437-38C4-420A-8D09-0CD025EEA93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 besoin de commentair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 besoin de commentair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 besoin de commentair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 besoin de commentair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 besoin de commentair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 besoin de commentair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 besoin de commentaires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CB0-1343-427A-B9F1-537517094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0C1-5B97-4744-ADE3-91186A67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539E-8ED6-43FB-A471-2FF52A14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83B1-4990-42CE-9343-33D5AE021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251-8E9E-4ED7-9E50-BA1E9E5E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52D0-72A0-4A11-BE45-145B44C9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E8A-B466-4BA4-B976-2FF84AA1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715-1681-4BE4-BC2A-62912EBD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B607-F19B-4071-A19F-32784499D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E2E5-61A2-4360-871E-DA75457B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2351-8D23-4F8D-830B-406FD40A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EA05-01FA-4B81-A083-28D5E8C9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F720-226A-4F0A-9550-B7FE6AB91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Administration_4_Authentification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Interface Esup-Por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Ongl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35280" y="4221000"/>
            <a:ext cx="2881440" cy="2006640"/>
          </a:xfrm>
          <a:prstGeom prst="roundRect">
            <a:avLst>
              <a:gd name="adj" fmla="val 16667"/>
            </a:avLst>
          </a:prstGeom>
          <a:solidFill>
            <a:srgbClr val="627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95760" y="3957480"/>
            <a:ext cx="871200" cy="6969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19560" y="4307040"/>
            <a:ext cx="1308240" cy="1831680"/>
          </a:xfrm>
          <a:custGeom>
            <a:avLst/>
            <a:gdLst>
              <a:gd name="textAreaLeft" fmla="*/ 63720 w 1308240"/>
              <a:gd name="textAreaRight" fmla="*/ 1244520 w 1308240"/>
              <a:gd name="textAreaTop" fmla="*/ 63720 h 1831680"/>
              <a:gd name="textAreaBottom" fmla="*/ 1767960 h 1831680"/>
            </a:gdLst>
            <a:ahLst/>
            <a:rect l="textAreaLeft" t="textAreaTop" r="textAreaRight" b="textAreaBottom"/>
            <a:pathLst>
              <a:path w="21600" h="30240">
                <a:moveTo>
                  <a:pt x="3600" y="0"/>
                </a:moveTo>
                <a:arcTo wR="3600" hR="3600" stAng="16200000" swAng="-5400000"/>
                <a:lnTo>
                  <a:pt x="0" y="26640"/>
                </a:lnTo>
                <a:arcTo wR="3600" hR="3600" stAng="10800000" swAng="-5400000"/>
                <a:lnTo>
                  <a:pt x="18000" y="30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b9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92520" y="4307040"/>
            <a:ext cx="1309680" cy="1831680"/>
          </a:xfrm>
          <a:custGeom>
            <a:avLst/>
            <a:gdLst>
              <a:gd name="textAreaLeft" fmla="*/ 63720 w 1309680"/>
              <a:gd name="textAreaRight" fmla="*/ 1245960 w 1309680"/>
              <a:gd name="textAreaTop" fmla="*/ 63720 h 1831680"/>
              <a:gd name="textAreaBottom" fmla="*/ 1767960 h 1831680"/>
            </a:gdLst>
            <a:ahLst/>
            <a:rect l="textAreaLeft" t="textAreaTop" r="textAreaRight" b="textAreaBottom"/>
            <a:pathLst>
              <a:path w="21600" h="30207">
                <a:moveTo>
                  <a:pt x="3600" y="0"/>
                </a:moveTo>
                <a:arcTo wR="3600" hR="3600" stAng="16200000" swAng="-5400000"/>
                <a:lnTo>
                  <a:pt x="0" y="26607"/>
                </a:lnTo>
                <a:arcTo wR="3600" hR="3600" stAng="10800000" swAng="-5400000"/>
                <a:lnTo>
                  <a:pt x="18000" y="302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b9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09880" y="4481640"/>
            <a:ext cx="1135080" cy="699840"/>
          </a:xfrm>
          <a:prstGeom prst="rect">
            <a:avLst/>
          </a:prstGeom>
          <a:solidFill>
            <a:srgbClr val="c4cdda"/>
          </a:solidFill>
          <a:ln w="12600">
            <a:solidFill>
              <a:srgbClr val="627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09880" y="5267160"/>
            <a:ext cx="1135080" cy="696960"/>
          </a:xfrm>
          <a:prstGeom prst="rect">
            <a:avLst/>
          </a:prstGeom>
          <a:solidFill>
            <a:srgbClr val="c4cdda"/>
          </a:solidFill>
          <a:ln w="12600">
            <a:solidFill>
              <a:srgbClr val="627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07040" y="4481640"/>
            <a:ext cx="1135080" cy="699840"/>
          </a:xfrm>
          <a:prstGeom prst="rect">
            <a:avLst/>
          </a:prstGeom>
          <a:solidFill>
            <a:srgbClr val="c4cdda"/>
          </a:solidFill>
          <a:ln w="12600">
            <a:solidFill>
              <a:srgbClr val="627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720" y="1600200"/>
            <a:ext cx="860580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cation des cont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Ong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on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3957480"/>
            <a:ext cx="871560" cy="6969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4226040"/>
            <a:ext cx="2881440" cy="200664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86040" y="3962520"/>
            <a:ext cx="871560" cy="69696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27480" y="4311720"/>
            <a:ext cx="1308240" cy="1832040"/>
          </a:xfrm>
          <a:custGeom>
            <a:avLst/>
            <a:gdLst>
              <a:gd name="textAreaLeft" fmla="*/ 63720 w 1308240"/>
              <a:gd name="textAreaRight" fmla="*/ 1244520 w 1308240"/>
              <a:gd name="textAreaTop" fmla="*/ 63720 h 1832040"/>
              <a:gd name="textAreaBottom" fmla="*/ 1768320 h 1832040"/>
            </a:gdLst>
            <a:ahLst/>
            <a:rect l="textAreaLeft" t="textAreaTop" r="textAreaRight" b="textAreaBottom"/>
            <a:pathLst>
              <a:path w="21600" h="30246">
                <a:moveTo>
                  <a:pt x="3600" y="0"/>
                </a:moveTo>
                <a:arcTo wR="3600" hR="3600" stAng="16200000" swAng="-5400000"/>
                <a:lnTo>
                  <a:pt x="0" y="26646"/>
                </a:lnTo>
                <a:arcTo wR="3600" hR="3600" stAng="10800000" swAng="-5400000"/>
                <a:lnTo>
                  <a:pt x="18000" y="30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800440" y="4311720"/>
            <a:ext cx="1309680" cy="1832040"/>
          </a:xfrm>
          <a:custGeom>
            <a:avLst/>
            <a:gdLst>
              <a:gd name="textAreaLeft" fmla="*/ 63720 w 1309680"/>
              <a:gd name="textAreaRight" fmla="*/ 1245960 w 1309680"/>
              <a:gd name="textAreaTop" fmla="*/ 63720 h 1832040"/>
              <a:gd name="textAreaBottom" fmla="*/ 1768320 h 1832040"/>
            </a:gdLst>
            <a:ahLst/>
            <a:rect l="textAreaLeft" t="textAreaTop" r="textAreaRight" b="textAreaBottom"/>
            <a:pathLst>
              <a:path w="21600" h="30213">
                <a:moveTo>
                  <a:pt x="3600" y="0"/>
                </a:moveTo>
                <a:arcTo wR="3600" hR="3600" stAng="16200000" swAng="-5400000"/>
                <a:lnTo>
                  <a:pt x="0" y="26613"/>
                </a:lnTo>
                <a:arcTo wR="3600" hR="3600" stAng="10800000" swAng="-5400000"/>
                <a:lnTo>
                  <a:pt x="18000" y="302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917800" y="4486320"/>
            <a:ext cx="1135080" cy="700200"/>
          </a:xfrm>
          <a:prstGeom prst="rect">
            <a:avLst/>
          </a:prstGeom>
          <a:solidFill>
            <a:srgbClr val="ffcc00"/>
          </a:solidFill>
          <a:ln w="12600">
            <a:solidFill>
              <a:srgbClr val="627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7800" y="5272200"/>
            <a:ext cx="1135080" cy="696960"/>
          </a:xfrm>
          <a:prstGeom prst="rect">
            <a:avLst/>
          </a:prstGeom>
          <a:solidFill>
            <a:srgbClr val="ffcc00"/>
          </a:solidFill>
          <a:ln w="12600">
            <a:solidFill>
              <a:srgbClr val="627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14960" y="4486320"/>
            <a:ext cx="1135080" cy="700200"/>
          </a:xfrm>
          <a:prstGeom prst="rect">
            <a:avLst/>
          </a:prstGeom>
          <a:solidFill>
            <a:srgbClr val="ffcc00"/>
          </a:solidFill>
          <a:ln w="12600">
            <a:solidFill>
              <a:srgbClr val="627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35280" y="4221000"/>
            <a:ext cx="2881440" cy="2006640"/>
          </a:xfrm>
          <a:prstGeom prst="roundRect">
            <a:avLst>
              <a:gd name="adj" fmla="val 16667"/>
            </a:avLst>
          </a:prstGeom>
          <a:solidFill>
            <a:srgbClr val="627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19560" y="4307040"/>
            <a:ext cx="1308240" cy="1831680"/>
          </a:xfrm>
          <a:custGeom>
            <a:avLst/>
            <a:gdLst>
              <a:gd name="textAreaLeft" fmla="*/ 63720 w 1308240"/>
              <a:gd name="textAreaRight" fmla="*/ 1244520 w 1308240"/>
              <a:gd name="textAreaTop" fmla="*/ 63720 h 1831680"/>
              <a:gd name="textAreaBottom" fmla="*/ 1767960 h 1831680"/>
            </a:gdLst>
            <a:ahLst/>
            <a:rect l="textAreaLeft" t="textAreaTop" r="textAreaRight" b="textAreaBottom"/>
            <a:pathLst>
              <a:path w="21600" h="30240">
                <a:moveTo>
                  <a:pt x="3600" y="0"/>
                </a:moveTo>
                <a:arcTo wR="3600" hR="3600" stAng="16200000" swAng="-5400000"/>
                <a:lnTo>
                  <a:pt x="0" y="26640"/>
                </a:lnTo>
                <a:arcTo wR="3600" hR="3600" stAng="10800000" swAng="-5400000"/>
                <a:lnTo>
                  <a:pt x="18000" y="302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b9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92520" y="4307040"/>
            <a:ext cx="1309680" cy="1831680"/>
          </a:xfrm>
          <a:custGeom>
            <a:avLst/>
            <a:gdLst>
              <a:gd name="textAreaLeft" fmla="*/ 63720 w 1309680"/>
              <a:gd name="textAreaRight" fmla="*/ 1245960 w 1309680"/>
              <a:gd name="textAreaTop" fmla="*/ 63720 h 1831680"/>
              <a:gd name="textAreaBottom" fmla="*/ 1767960 h 1831680"/>
            </a:gdLst>
            <a:ahLst/>
            <a:rect l="textAreaLeft" t="textAreaTop" r="textAreaRight" b="textAreaBottom"/>
            <a:pathLst>
              <a:path w="21600" h="30207">
                <a:moveTo>
                  <a:pt x="3600" y="0"/>
                </a:moveTo>
                <a:arcTo wR="3600" hR="3600" stAng="16200000" swAng="-5400000"/>
                <a:lnTo>
                  <a:pt x="0" y="26607"/>
                </a:lnTo>
                <a:arcTo wR="3600" hR="3600" stAng="10800000" swAng="-5400000"/>
                <a:lnTo>
                  <a:pt x="18000" y="302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b9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09880" y="4481640"/>
            <a:ext cx="1135080" cy="699840"/>
          </a:xfrm>
          <a:prstGeom prst="rect">
            <a:avLst/>
          </a:prstGeom>
          <a:solidFill>
            <a:srgbClr val="c4cdda"/>
          </a:solidFill>
          <a:ln w="12600">
            <a:solidFill>
              <a:srgbClr val="627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09880" y="5267160"/>
            <a:ext cx="1135080" cy="696960"/>
          </a:xfrm>
          <a:prstGeom prst="rect">
            <a:avLst/>
          </a:prstGeom>
          <a:solidFill>
            <a:srgbClr val="c4cdda"/>
          </a:solidFill>
          <a:ln w="12600">
            <a:solidFill>
              <a:srgbClr val="627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07040" y="4481640"/>
            <a:ext cx="1135080" cy="699840"/>
          </a:xfrm>
          <a:prstGeom prst="rect">
            <a:avLst/>
          </a:prstGeom>
          <a:solidFill>
            <a:srgbClr val="c4cdda"/>
          </a:solidFill>
          <a:ln w="12600">
            <a:solidFill>
              <a:srgbClr val="627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67640" y="5003640"/>
            <a:ext cx="2147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Tahoma"/>
              </a:rPr>
              <a:t>Ongle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définition de rubriques spécifiques de cont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382560" y="4140000"/>
            <a:ext cx="3313440" cy="1655640"/>
            <a:chOff x="3382560" y="4140000"/>
            <a:chExt cx="3313440" cy="1655640"/>
          </a:xfrm>
        </p:grpSpPr>
        <p:sp>
          <p:nvSpPr>
            <p:cNvPr id="75" name=""/>
            <p:cNvSpPr/>
            <p:nvPr/>
          </p:nvSpPr>
          <p:spPr>
            <a:xfrm flipH="1" flipV="1">
              <a:off x="3382560" y="4140000"/>
              <a:ext cx="331308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103280" y="4140000"/>
              <a:ext cx="259236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4967280" y="4140000"/>
              <a:ext cx="172872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es cont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éfé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k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Interface Esup-Por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olon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2664000" y="3995640"/>
            <a:ext cx="2880720" cy="2269800"/>
            <a:chOff x="2664000" y="3995640"/>
            <a:chExt cx="2880720" cy="2269800"/>
          </a:xfrm>
        </p:grpSpPr>
        <p:sp>
          <p:nvSpPr>
            <p:cNvPr id="85" name=""/>
            <p:cNvSpPr/>
            <p:nvPr/>
          </p:nvSpPr>
          <p:spPr>
            <a:xfrm>
              <a:off x="2664000" y="4258800"/>
              <a:ext cx="2880720" cy="2006640"/>
            </a:xfrm>
            <a:prstGeom prst="roundRect">
              <a:avLst>
                <a:gd name="adj" fmla="val 16667"/>
              </a:avLst>
            </a:prstGeom>
            <a:solidFill>
              <a:srgbClr val="627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607560" y="3995640"/>
              <a:ext cx="871560" cy="697320"/>
            </a:xfrm>
            <a:prstGeom prst="roundRect">
              <a:avLst>
                <a:gd name="adj" fmla="val 16667"/>
              </a:avLst>
            </a:prstGeom>
            <a:solidFill>
              <a:srgbClr val="627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47200" y="4344120"/>
              <a:ext cx="1308960" cy="1832760"/>
            </a:xfrm>
            <a:custGeom>
              <a:avLst/>
              <a:gdLst>
                <a:gd name="textAreaLeft" fmla="*/ 63720 w 1308960"/>
                <a:gd name="textAreaRight" fmla="*/ 1245240 w 1308960"/>
                <a:gd name="textAreaTop" fmla="*/ 63720 h 1832760"/>
                <a:gd name="textAreaBottom" fmla="*/ 1769040 h 1832760"/>
              </a:gdLst>
              <a:ahLst/>
              <a:rect l="textAreaLeft" t="textAreaTop" r="textAreaRight" b="textAreaBottom"/>
              <a:pathLst>
                <a:path w="21600" h="30241">
                  <a:moveTo>
                    <a:pt x="3600" y="0"/>
                  </a:moveTo>
                  <a:arcTo wR="3600" hR="3600" stAng="16200000" swAng="-5400000"/>
                  <a:lnTo>
                    <a:pt x="0" y="26641"/>
                  </a:lnTo>
                  <a:arcTo wR="3600" hR="3600" stAng="10800000" swAng="-5400000"/>
                  <a:lnTo>
                    <a:pt x="18000" y="302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b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21600" y="4344120"/>
              <a:ext cx="1308240" cy="1832760"/>
            </a:xfrm>
            <a:custGeom>
              <a:avLst/>
              <a:gdLst>
                <a:gd name="textAreaLeft" fmla="*/ 63720 w 1308240"/>
                <a:gd name="textAreaRight" fmla="*/ 1244520 w 1308240"/>
                <a:gd name="textAreaTop" fmla="*/ 63720 h 1832760"/>
                <a:gd name="textAreaBottom" fmla="*/ 1769040 h 1832760"/>
              </a:gdLst>
              <a:ahLst/>
              <a:rect l="textAreaLeft" t="textAreaTop" r="textAreaRight" b="textAreaBottom"/>
              <a:pathLst>
                <a:path w="21600" h="30258">
                  <a:moveTo>
                    <a:pt x="3600" y="0"/>
                  </a:moveTo>
                  <a:arcTo wR="3600" hR="3600" stAng="16200000" swAng="-5400000"/>
                  <a:lnTo>
                    <a:pt x="0" y="26658"/>
                  </a:lnTo>
                  <a:arcTo wR="3600" hR="3600" stAng="10800000" swAng="-5400000"/>
                  <a:lnTo>
                    <a:pt x="18000" y="302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b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38240" y="4518720"/>
              <a:ext cx="1134720" cy="700560"/>
            </a:xfrm>
            <a:prstGeom prst="rect">
              <a:avLst/>
            </a:prstGeom>
            <a:solidFill>
              <a:srgbClr val="c4cdda"/>
            </a:solidFill>
            <a:ln w="12600">
              <a:solidFill>
                <a:srgbClr val="627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38240" y="5304960"/>
              <a:ext cx="1134720" cy="697320"/>
            </a:xfrm>
            <a:prstGeom prst="rect">
              <a:avLst/>
            </a:prstGeom>
            <a:solidFill>
              <a:srgbClr val="c4cdda"/>
            </a:solidFill>
            <a:ln w="12600">
              <a:solidFill>
                <a:srgbClr val="627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236120" y="4518720"/>
              <a:ext cx="1134000" cy="700560"/>
            </a:xfrm>
            <a:prstGeom prst="rect">
              <a:avLst/>
            </a:prstGeom>
            <a:solidFill>
              <a:srgbClr val="c4cdda"/>
            </a:solidFill>
            <a:ln w="12600">
              <a:solidFill>
                <a:srgbClr val="627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50720" y="1600200"/>
            <a:ext cx="860580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cation des cont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g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Colon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664000" y="3995640"/>
            <a:ext cx="2880720" cy="2269440"/>
            <a:chOff x="2664000" y="3995640"/>
            <a:chExt cx="2880720" cy="2269440"/>
          </a:xfrm>
        </p:grpSpPr>
        <p:sp>
          <p:nvSpPr>
            <p:cNvPr id="94" name=""/>
            <p:cNvSpPr/>
            <p:nvPr/>
          </p:nvSpPr>
          <p:spPr>
            <a:xfrm>
              <a:off x="2664000" y="4258080"/>
              <a:ext cx="2880720" cy="2007000"/>
            </a:xfrm>
            <a:prstGeom prst="roundRect">
              <a:avLst>
                <a:gd name="adj" fmla="val 16667"/>
              </a:avLst>
            </a:prstGeom>
            <a:solidFill>
              <a:srgbClr val="627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15480" y="3995640"/>
              <a:ext cx="871560" cy="697320"/>
            </a:xfrm>
            <a:prstGeom prst="roundRect">
              <a:avLst>
                <a:gd name="adj" fmla="val 16667"/>
              </a:avLst>
            </a:prstGeom>
            <a:solidFill>
              <a:srgbClr val="627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46840" y="4344120"/>
              <a:ext cx="1308960" cy="1832040"/>
            </a:xfrm>
            <a:custGeom>
              <a:avLst/>
              <a:gdLst>
                <a:gd name="textAreaLeft" fmla="*/ 63720 w 1308960"/>
                <a:gd name="textAreaRight" fmla="*/ 1245240 w 1308960"/>
                <a:gd name="textAreaTop" fmla="*/ 63720 h 1832040"/>
                <a:gd name="textAreaBottom" fmla="*/ 1768320 h 1832040"/>
              </a:gdLst>
              <a:ahLst/>
              <a:rect l="textAreaLeft" t="textAreaTop" r="textAreaRight" b="textAreaBottom"/>
              <a:pathLst>
                <a:path w="21600" h="30229">
                  <a:moveTo>
                    <a:pt x="3600" y="0"/>
                  </a:moveTo>
                  <a:arcTo wR="3600" hR="3600" stAng="16200000" swAng="-5400000"/>
                  <a:lnTo>
                    <a:pt x="0" y="26629"/>
                  </a:lnTo>
                  <a:arcTo wR="3600" hR="3600" stAng="10800000" swAng="-5400000"/>
                  <a:lnTo>
                    <a:pt x="18000" y="302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b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720880" y="4344120"/>
              <a:ext cx="1308240" cy="1832040"/>
            </a:xfrm>
            <a:custGeom>
              <a:avLst/>
              <a:gdLst>
                <a:gd name="textAreaLeft" fmla="*/ 63720 w 1308240"/>
                <a:gd name="textAreaRight" fmla="*/ 1244520 w 1308240"/>
                <a:gd name="textAreaTop" fmla="*/ 63720 h 1832040"/>
                <a:gd name="textAreaBottom" fmla="*/ 1768320 h 1832040"/>
              </a:gdLst>
              <a:ahLst/>
              <a:rect l="textAreaLeft" t="textAreaTop" r="textAreaRight" b="textAreaBottom"/>
              <a:pathLst>
                <a:path w="21600" h="30246">
                  <a:moveTo>
                    <a:pt x="3600" y="0"/>
                  </a:moveTo>
                  <a:arcTo wR="3600" hR="3600" stAng="16200000" swAng="-5400000"/>
                  <a:lnTo>
                    <a:pt x="0" y="26646"/>
                  </a:lnTo>
                  <a:arcTo wR="3600" hR="3600" stAng="10800000" swAng="-5400000"/>
                  <a:lnTo>
                    <a:pt x="18000" y="302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b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38240" y="4518720"/>
              <a:ext cx="1134000" cy="700200"/>
            </a:xfrm>
            <a:prstGeom prst="rect">
              <a:avLst/>
            </a:prstGeom>
            <a:solidFill>
              <a:srgbClr val="c4cdda"/>
            </a:solidFill>
            <a:ln w="12600">
              <a:solidFill>
                <a:srgbClr val="627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38240" y="5304600"/>
              <a:ext cx="1134000" cy="697320"/>
            </a:xfrm>
            <a:prstGeom prst="rect">
              <a:avLst/>
            </a:prstGeom>
            <a:solidFill>
              <a:srgbClr val="c4cdda"/>
            </a:solidFill>
            <a:ln w="12600">
              <a:solidFill>
                <a:srgbClr val="627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235400" y="4518720"/>
              <a:ext cx="1134720" cy="700200"/>
            </a:xfrm>
            <a:prstGeom prst="rect">
              <a:avLst/>
            </a:prstGeom>
            <a:solidFill>
              <a:srgbClr val="c4cdda"/>
            </a:solidFill>
            <a:ln w="12600">
              <a:solidFill>
                <a:srgbClr val="627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664000" y="4259160"/>
            <a:ext cx="2881080" cy="2006640"/>
          </a:xfrm>
          <a:prstGeom prst="roundRect">
            <a:avLst>
              <a:gd name="adj" fmla="val 16667"/>
            </a:avLst>
          </a:prstGeom>
          <a:solidFill>
            <a:srgbClr val="627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24120" y="3995640"/>
            <a:ext cx="871560" cy="696960"/>
          </a:xfrm>
          <a:prstGeom prst="roundRect">
            <a:avLst>
              <a:gd name="adj" fmla="val 16667"/>
            </a:avLst>
          </a:prstGeom>
          <a:solidFill>
            <a:srgbClr val="627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48280" y="4344840"/>
            <a:ext cx="1307880" cy="1832040"/>
          </a:xfrm>
          <a:custGeom>
            <a:avLst/>
            <a:gdLst>
              <a:gd name="textAreaLeft" fmla="*/ 63720 w 1307880"/>
              <a:gd name="textAreaRight" fmla="*/ 1244160 w 1307880"/>
              <a:gd name="textAreaTop" fmla="*/ 63720 h 1832040"/>
              <a:gd name="textAreaBottom" fmla="*/ 1768320 h 1832040"/>
            </a:gdLst>
            <a:ahLst/>
            <a:rect l="textAreaLeft" t="textAreaTop" r="textAreaRight" b="textAreaBottom"/>
            <a:pathLst>
              <a:path w="21600" h="30254">
                <a:moveTo>
                  <a:pt x="3600" y="0"/>
                </a:moveTo>
                <a:arcTo wR="3600" hR="3600" stAng="16200000" swAng="-5400000"/>
                <a:lnTo>
                  <a:pt x="0" y="26654"/>
                </a:lnTo>
                <a:arcTo wR="3600" hR="3600" stAng="10800000" swAng="-5400000"/>
                <a:lnTo>
                  <a:pt x="18000" y="302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20880" y="4344840"/>
            <a:ext cx="1309680" cy="1832040"/>
          </a:xfrm>
          <a:custGeom>
            <a:avLst/>
            <a:gdLst>
              <a:gd name="textAreaLeft" fmla="*/ 63720 w 1309680"/>
              <a:gd name="textAreaRight" fmla="*/ 1245960 w 1309680"/>
              <a:gd name="textAreaTop" fmla="*/ 63720 h 1832040"/>
              <a:gd name="textAreaBottom" fmla="*/ 1768320 h 1832040"/>
            </a:gdLst>
            <a:ahLst/>
            <a:rect l="textAreaLeft" t="textAreaTop" r="textAreaRight" b="textAreaBottom"/>
            <a:pathLst>
              <a:path w="21600" h="30213">
                <a:moveTo>
                  <a:pt x="3600" y="0"/>
                </a:moveTo>
                <a:arcTo wR="3600" hR="3600" stAng="16200000" swAng="-5400000"/>
                <a:lnTo>
                  <a:pt x="0" y="26613"/>
                </a:lnTo>
                <a:arcTo wR="3600" hR="3600" stAng="10800000" swAng="-5400000"/>
                <a:lnTo>
                  <a:pt x="18000" y="302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838600" y="4519440"/>
            <a:ext cx="1135080" cy="700200"/>
          </a:xfrm>
          <a:prstGeom prst="rect">
            <a:avLst/>
          </a:prstGeom>
          <a:solidFill>
            <a:srgbClr val="c4cdda"/>
          </a:solidFill>
          <a:ln w="12600">
            <a:solidFill>
              <a:srgbClr val="627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38600" y="5305320"/>
            <a:ext cx="1135080" cy="696960"/>
          </a:xfrm>
          <a:prstGeom prst="rect">
            <a:avLst/>
          </a:prstGeom>
          <a:solidFill>
            <a:srgbClr val="c4cdda"/>
          </a:solidFill>
          <a:ln w="12600">
            <a:solidFill>
              <a:srgbClr val="627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35400" y="4519440"/>
            <a:ext cx="1135080" cy="700200"/>
          </a:xfrm>
          <a:prstGeom prst="rect">
            <a:avLst/>
          </a:prstGeom>
          <a:solidFill>
            <a:srgbClr val="c4cdda"/>
          </a:solidFill>
          <a:ln w="12600">
            <a:solidFill>
              <a:srgbClr val="627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7640" y="5435640"/>
            <a:ext cx="2147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Tahoma"/>
              </a:rPr>
              <a:t>Colonn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mise en forme des conte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959280" y="5292720"/>
            <a:ext cx="2736720" cy="503280"/>
            <a:chOff x="3959280" y="5292720"/>
            <a:chExt cx="2736720" cy="503280"/>
          </a:xfrm>
        </p:grpSpPr>
        <p:sp>
          <p:nvSpPr>
            <p:cNvPr id="110" name=""/>
            <p:cNvSpPr/>
            <p:nvPr/>
          </p:nvSpPr>
          <p:spPr>
            <a:xfrm flipH="1" flipV="1">
              <a:off x="3959280" y="5292720"/>
              <a:ext cx="27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5111640" y="5292720"/>
              <a:ext cx="158400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es cont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éfé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k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Interface Esup-Por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an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92360" y="3995640"/>
            <a:ext cx="2881080" cy="2269800"/>
            <a:chOff x="2592360" y="3995640"/>
            <a:chExt cx="2881080" cy="2269800"/>
          </a:xfrm>
        </p:grpSpPr>
        <p:sp>
          <p:nvSpPr>
            <p:cNvPr id="119" name=""/>
            <p:cNvSpPr/>
            <p:nvPr/>
          </p:nvSpPr>
          <p:spPr>
            <a:xfrm>
              <a:off x="2592360" y="4258800"/>
              <a:ext cx="2881080" cy="2006640"/>
            </a:xfrm>
            <a:prstGeom prst="roundRect">
              <a:avLst>
                <a:gd name="adj" fmla="val 16667"/>
              </a:avLst>
            </a:prstGeom>
            <a:solidFill>
              <a:srgbClr val="627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35920" y="3995640"/>
              <a:ext cx="871560" cy="697320"/>
            </a:xfrm>
            <a:prstGeom prst="roundRect">
              <a:avLst>
                <a:gd name="adj" fmla="val 16667"/>
              </a:avLst>
            </a:prstGeom>
            <a:solidFill>
              <a:srgbClr val="627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5920" y="4344120"/>
              <a:ext cx="1308960" cy="1832760"/>
            </a:xfrm>
            <a:custGeom>
              <a:avLst/>
              <a:gdLst>
                <a:gd name="textAreaLeft" fmla="*/ 63720 w 1308960"/>
                <a:gd name="textAreaRight" fmla="*/ 1245240 w 1308960"/>
                <a:gd name="textAreaTop" fmla="*/ 63720 h 1832760"/>
                <a:gd name="textAreaBottom" fmla="*/ 1769040 h 1832760"/>
              </a:gdLst>
              <a:ahLst/>
              <a:rect l="textAreaLeft" t="textAreaTop" r="textAreaRight" b="textAreaBottom"/>
              <a:pathLst>
                <a:path w="21600" h="30241">
                  <a:moveTo>
                    <a:pt x="3600" y="0"/>
                  </a:moveTo>
                  <a:arcTo wR="3600" hR="3600" stAng="16200000" swAng="-5400000"/>
                  <a:lnTo>
                    <a:pt x="0" y="26641"/>
                  </a:lnTo>
                  <a:arcTo wR="3600" hR="3600" stAng="10800000" swAng="-5400000"/>
                  <a:lnTo>
                    <a:pt x="18000" y="3024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b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49960" y="4344120"/>
              <a:ext cx="1308600" cy="1832760"/>
            </a:xfrm>
            <a:custGeom>
              <a:avLst/>
              <a:gdLst>
                <a:gd name="textAreaLeft" fmla="*/ 63720 w 1308600"/>
                <a:gd name="textAreaRight" fmla="*/ 1244880 w 1308600"/>
                <a:gd name="textAreaTop" fmla="*/ 63720 h 1832760"/>
                <a:gd name="textAreaBottom" fmla="*/ 1769040 h 1832760"/>
              </a:gdLst>
              <a:ahLst/>
              <a:rect l="textAreaLeft" t="textAreaTop" r="textAreaRight" b="textAreaBottom"/>
              <a:pathLst>
                <a:path w="21600" h="30250">
                  <a:moveTo>
                    <a:pt x="3600" y="0"/>
                  </a:moveTo>
                  <a:arcTo wR="3600" hR="3600" stAng="16200000" swAng="-5400000"/>
                  <a:lnTo>
                    <a:pt x="0" y="26650"/>
                  </a:lnTo>
                  <a:arcTo wR="3600" hR="3600" stAng="10800000" swAng="-5400000"/>
                  <a:lnTo>
                    <a:pt x="18000" y="302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b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66600" y="4518720"/>
              <a:ext cx="1134720" cy="700560"/>
            </a:xfrm>
            <a:prstGeom prst="rect">
              <a:avLst/>
            </a:prstGeom>
            <a:solidFill>
              <a:srgbClr val="c4cdda"/>
            </a:solidFill>
            <a:ln w="12600">
              <a:solidFill>
                <a:srgbClr val="627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66600" y="5304960"/>
              <a:ext cx="1134720" cy="697320"/>
            </a:xfrm>
            <a:prstGeom prst="rect">
              <a:avLst/>
            </a:prstGeom>
            <a:solidFill>
              <a:srgbClr val="c4cdda"/>
            </a:solidFill>
            <a:ln w="12600">
              <a:solidFill>
                <a:srgbClr val="627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64840" y="4518720"/>
              <a:ext cx="1134000" cy="700560"/>
            </a:xfrm>
            <a:prstGeom prst="rect">
              <a:avLst/>
            </a:prstGeom>
            <a:solidFill>
              <a:srgbClr val="c4cdda"/>
            </a:solidFill>
            <a:ln w="12600">
              <a:solidFill>
                <a:srgbClr val="627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79440" y="1600200"/>
            <a:ext cx="8605800" cy="52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cation des conte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gl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on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Can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592360" y="3995640"/>
            <a:ext cx="2881080" cy="2269440"/>
            <a:chOff x="2592360" y="3995640"/>
            <a:chExt cx="2881080" cy="2269440"/>
          </a:xfrm>
        </p:grpSpPr>
        <p:sp>
          <p:nvSpPr>
            <p:cNvPr id="128" name=""/>
            <p:cNvSpPr/>
            <p:nvPr/>
          </p:nvSpPr>
          <p:spPr>
            <a:xfrm>
              <a:off x="2592360" y="4258080"/>
              <a:ext cx="2881080" cy="2007000"/>
            </a:xfrm>
            <a:prstGeom prst="roundRect">
              <a:avLst>
                <a:gd name="adj" fmla="val 16667"/>
              </a:avLst>
            </a:prstGeom>
            <a:solidFill>
              <a:srgbClr val="627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44200" y="3995640"/>
              <a:ext cx="871560" cy="697320"/>
            </a:xfrm>
            <a:prstGeom prst="roundRect">
              <a:avLst>
                <a:gd name="adj" fmla="val 16667"/>
              </a:avLst>
            </a:prstGeom>
            <a:solidFill>
              <a:srgbClr val="627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75200" y="4344120"/>
              <a:ext cx="1308960" cy="1832040"/>
            </a:xfrm>
            <a:custGeom>
              <a:avLst/>
              <a:gdLst>
                <a:gd name="textAreaLeft" fmla="*/ 63720 w 1308960"/>
                <a:gd name="textAreaRight" fmla="*/ 1245240 w 1308960"/>
                <a:gd name="textAreaTop" fmla="*/ 63720 h 1832040"/>
                <a:gd name="textAreaBottom" fmla="*/ 1768320 h 1832040"/>
              </a:gdLst>
              <a:ahLst/>
              <a:rect l="textAreaLeft" t="textAreaTop" r="textAreaRight" b="textAreaBottom"/>
              <a:pathLst>
                <a:path w="21600" h="30229">
                  <a:moveTo>
                    <a:pt x="3600" y="0"/>
                  </a:moveTo>
                  <a:arcTo wR="3600" hR="3600" stAng="16200000" swAng="-5400000"/>
                  <a:lnTo>
                    <a:pt x="0" y="26629"/>
                  </a:lnTo>
                  <a:arcTo wR="3600" hR="3600" stAng="10800000" swAng="-5400000"/>
                  <a:lnTo>
                    <a:pt x="18000" y="3022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b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49240" y="4344120"/>
              <a:ext cx="1308600" cy="1832040"/>
            </a:xfrm>
            <a:custGeom>
              <a:avLst/>
              <a:gdLst>
                <a:gd name="textAreaLeft" fmla="*/ 63720 w 1308600"/>
                <a:gd name="textAreaRight" fmla="*/ 1244880 w 1308600"/>
                <a:gd name="textAreaTop" fmla="*/ 63720 h 1832040"/>
                <a:gd name="textAreaBottom" fmla="*/ 1768320 h 1832040"/>
              </a:gdLst>
              <a:ahLst/>
              <a:rect l="textAreaLeft" t="textAreaTop" r="textAreaRight" b="textAreaBottom"/>
              <a:pathLst>
                <a:path w="21600" h="30238">
                  <a:moveTo>
                    <a:pt x="3600" y="0"/>
                  </a:moveTo>
                  <a:arcTo wR="3600" hR="3600" stAng="16200000" swAng="-5400000"/>
                  <a:lnTo>
                    <a:pt x="0" y="26638"/>
                  </a:lnTo>
                  <a:arcTo wR="3600" hR="3600" stAng="10800000" swAng="-5400000"/>
                  <a:lnTo>
                    <a:pt x="18000" y="302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b9d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66600" y="4518720"/>
              <a:ext cx="1134000" cy="700200"/>
            </a:xfrm>
            <a:prstGeom prst="rect">
              <a:avLst/>
            </a:prstGeom>
            <a:solidFill>
              <a:srgbClr val="c4cdda"/>
            </a:solidFill>
            <a:ln w="12600">
              <a:solidFill>
                <a:srgbClr val="627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66600" y="5304600"/>
              <a:ext cx="1134000" cy="697320"/>
            </a:xfrm>
            <a:prstGeom prst="rect">
              <a:avLst/>
            </a:prstGeom>
            <a:solidFill>
              <a:srgbClr val="c4cdda"/>
            </a:solidFill>
            <a:ln w="12600">
              <a:solidFill>
                <a:srgbClr val="627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64120" y="4518720"/>
              <a:ext cx="1134720" cy="700200"/>
            </a:xfrm>
            <a:prstGeom prst="rect">
              <a:avLst/>
            </a:prstGeom>
            <a:solidFill>
              <a:srgbClr val="c4cdda"/>
            </a:solidFill>
            <a:ln w="12600">
              <a:solidFill>
                <a:srgbClr val="627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592360" y="4259160"/>
            <a:ext cx="2881440" cy="2006640"/>
          </a:xfrm>
          <a:prstGeom prst="roundRect">
            <a:avLst>
              <a:gd name="adj" fmla="val 16667"/>
            </a:avLst>
          </a:prstGeom>
          <a:solidFill>
            <a:srgbClr val="627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52840" y="3995640"/>
            <a:ext cx="871560" cy="696960"/>
          </a:xfrm>
          <a:prstGeom prst="roundRect">
            <a:avLst>
              <a:gd name="adj" fmla="val 16667"/>
            </a:avLst>
          </a:prstGeom>
          <a:solidFill>
            <a:srgbClr val="627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76640" y="4344840"/>
            <a:ext cx="1308240" cy="1832040"/>
          </a:xfrm>
          <a:custGeom>
            <a:avLst/>
            <a:gdLst>
              <a:gd name="textAreaLeft" fmla="*/ 63720 w 1308240"/>
              <a:gd name="textAreaRight" fmla="*/ 1244520 w 1308240"/>
              <a:gd name="textAreaTop" fmla="*/ 63720 h 1832040"/>
              <a:gd name="textAreaBottom" fmla="*/ 1768320 h 1832040"/>
            </a:gdLst>
            <a:ahLst/>
            <a:rect l="textAreaLeft" t="textAreaTop" r="textAreaRight" b="textAreaBottom"/>
            <a:pathLst>
              <a:path w="21600" h="30246">
                <a:moveTo>
                  <a:pt x="3600" y="0"/>
                </a:moveTo>
                <a:arcTo wR="3600" hR="3600" stAng="16200000" swAng="-5400000"/>
                <a:lnTo>
                  <a:pt x="0" y="26646"/>
                </a:lnTo>
                <a:arcTo wR="3600" hR="3600" stAng="10800000" swAng="-5400000"/>
                <a:lnTo>
                  <a:pt x="18000" y="30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b9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49600" y="4344840"/>
            <a:ext cx="1309680" cy="1832040"/>
          </a:xfrm>
          <a:custGeom>
            <a:avLst/>
            <a:gdLst>
              <a:gd name="textAreaLeft" fmla="*/ 63720 w 1309680"/>
              <a:gd name="textAreaRight" fmla="*/ 1245960 w 1309680"/>
              <a:gd name="textAreaTop" fmla="*/ 63720 h 1832040"/>
              <a:gd name="textAreaBottom" fmla="*/ 1768320 h 1832040"/>
            </a:gdLst>
            <a:ahLst/>
            <a:rect l="textAreaLeft" t="textAreaTop" r="textAreaRight" b="textAreaBottom"/>
            <a:pathLst>
              <a:path w="21600" h="30213">
                <a:moveTo>
                  <a:pt x="3600" y="0"/>
                </a:moveTo>
                <a:arcTo wR="3600" hR="3600" stAng="16200000" swAng="-5400000"/>
                <a:lnTo>
                  <a:pt x="0" y="26613"/>
                </a:lnTo>
                <a:arcTo wR="3600" hR="3600" stAng="10800000" swAng="-5400000"/>
                <a:lnTo>
                  <a:pt x="18000" y="302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8b9d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66960" y="4519440"/>
            <a:ext cx="1135080" cy="700200"/>
          </a:xfrm>
          <a:prstGeom prst="rect">
            <a:avLst/>
          </a:prstGeom>
          <a:solidFill>
            <a:srgbClr val="009999"/>
          </a:solidFill>
          <a:ln w="12600">
            <a:solidFill>
              <a:srgbClr val="627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66960" y="5305320"/>
            <a:ext cx="1135080" cy="696960"/>
          </a:xfrm>
          <a:prstGeom prst="rect">
            <a:avLst/>
          </a:prstGeom>
          <a:solidFill>
            <a:srgbClr val="009999"/>
          </a:solidFill>
          <a:ln w="12600">
            <a:solidFill>
              <a:srgbClr val="627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64120" y="4519440"/>
            <a:ext cx="1135080" cy="700200"/>
          </a:xfrm>
          <a:prstGeom prst="rect">
            <a:avLst/>
          </a:prstGeom>
          <a:solidFill>
            <a:srgbClr val="009999"/>
          </a:solidFill>
          <a:ln w="12600">
            <a:solidFill>
              <a:srgbClr val="627a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5334120"/>
            <a:ext cx="221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Tahoma"/>
              </a:rPr>
              <a:t>Canaux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éléments portant le contenu informa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456000" y="5651280"/>
            <a:ext cx="31687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3311280" y="4932000"/>
            <a:ext cx="331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4824000" y="4788000"/>
            <a:ext cx="1800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Les cont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éfé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k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rcRect l="15158" t="13947" r="3933" b="21942"/>
          <a:stretch/>
        </p:blipFill>
        <p:spPr>
          <a:xfrm>
            <a:off x="324000" y="1125360"/>
            <a:ext cx="8388360" cy="5318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Interface Esup-Por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Barre d'out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886200" y="1262160"/>
            <a:ext cx="3668760" cy="432000"/>
            <a:chOff x="3886200" y="1262160"/>
            <a:chExt cx="3668760" cy="432000"/>
          </a:xfrm>
        </p:grpSpPr>
        <p:sp>
          <p:nvSpPr>
            <p:cNvPr id="154" name=""/>
            <p:cNvSpPr/>
            <p:nvPr/>
          </p:nvSpPr>
          <p:spPr>
            <a:xfrm flipV="1">
              <a:off x="7010280" y="1262160"/>
              <a:ext cx="544680" cy="18576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6200" y="1295280"/>
              <a:ext cx="3124080" cy="398880"/>
            </a:xfrm>
            <a:prstGeom prst="rect">
              <a:avLst/>
            </a:prstGeom>
            <a:solidFill>
              <a:srgbClr val="ffffcc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66"/>
                  </a:solidFill>
                  <a:latin typeface="Tahoma"/>
                </a:rPr>
                <a:t>Retour à la page d’accue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486400" y="1294920"/>
            <a:ext cx="2327400" cy="704160"/>
            <a:chOff x="5486400" y="1294920"/>
            <a:chExt cx="2327400" cy="704160"/>
          </a:xfrm>
        </p:grpSpPr>
        <p:sp>
          <p:nvSpPr>
            <p:cNvPr id="157" name=""/>
            <p:cNvSpPr/>
            <p:nvPr/>
          </p:nvSpPr>
          <p:spPr>
            <a:xfrm flipV="1">
              <a:off x="7238880" y="1294920"/>
              <a:ext cx="574920" cy="38124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486400" y="1600200"/>
              <a:ext cx="1873080" cy="398880"/>
            </a:xfrm>
            <a:prstGeom prst="rect">
              <a:avLst/>
            </a:prstGeom>
            <a:solidFill>
              <a:srgbClr val="ffffcc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66"/>
                  </a:solidFill>
                  <a:latin typeface="Tahoma"/>
                </a:rPr>
                <a:t>Le plan du si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172200" y="1300320"/>
            <a:ext cx="2090880" cy="2603880"/>
            <a:chOff x="6172200" y="1300320"/>
            <a:chExt cx="2090880" cy="2603880"/>
          </a:xfrm>
        </p:grpSpPr>
        <p:sp>
          <p:nvSpPr>
            <p:cNvPr id="160" name=""/>
            <p:cNvSpPr/>
            <p:nvPr/>
          </p:nvSpPr>
          <p:spPr>
            <a:xfrm flipV="1">
              <a:off x="7162920" y="1300320"/>
              <a:ext cx="1100160" cy="190008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72200" y="3200400"/>
              <a:ext cx="1873080" cy="703800"/>
            </a:xfrm>
            <a:prstGeom prst="rect">
              <a:avLst/>
            </a:prstGeom>
            <a:solidFill>
              <a:srgbClr val="ffffcc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66"/>
                  </a:solidFill>
                  <a:latin typeface="Tahoma"/>
                </a:rPr>
                <a:t>Préférences utilisate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629400" y="1371240"/>
            <a:ext cx="1873080" cy="2913840"/>
            <a:chOff x="6629400" y="1371240"/>
            <a:chExt cx="1873080" cy="2913840"/>
          </a:xfrm>
        </p:grpSpPr>
        <p:sp>
          <p:nvSpPr>
            <p:cNvPr id="163" name=""/>
            <p:cNvSpPr/>
            <p:nvPr/>
          </p:nvSpPr>
          <p:spPr>
            <a:xfrm flipV="1">
              <a:off x="7924680" y="1371240"/>
              <a:ext cx="554040" cy="259092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9400" y="3886200"/>
              <a:ext cx="1873080" cy="398880"/>
            </a:xfrm>
            <a:prstGeom prst="rect">
              <a:avLst/>
            </a:prstGeom>
            <a:solidFill>
              <a:srgbClr val="ffffcc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66"/>
                  </a:solidFill>
                  <a:latin typeface="Tahoma"/>
                </a:rPr>
                <a:t>Déconnex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s cont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éfé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k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191120" y="1295280"/>
            <a:ext cx="3887640" cy="1161000"/>
            <a:chOff x="4191120" y="1295280"/>
            <a:chExt cx="3887640" cy="1161000"/>
          </a:xfrm>
        </p:grpSpPr>
        <p:sp>
          <p:nvSpPr>
            <p:cNvPr id="169" name=""/>
            <p:cNvSpPr/>
            <p:nvPr/>
          </p:nvSpPr>
          <p:spPr>
            <a:xfrm flipV="1">
              <a:off x="7072200" y="1295280"/>
              <a:ext cx="1006560" cy="1000080"/>
            </a:xfrm>
            <a:prstGeom prst="line">
              <a:avLst/>
            </a:prstGeom>
            <a:ln w="1908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91120" y="2057400"/>
              <a:ext cx="3168360" cy="398880"/>
            </a:xfrm>
            <a:prstGeom prst="rect">
              <a:avLst/>
            </a:prstGeom>
            <a:solidFill>
              <a:srgbClr val="ffffcc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66"/>
                  </a:solidFill>
                  <a:latin typeface="Tahoma"/>
                </a:rPr>
                <a:t>Gestionnaire de cana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6967800" cy="51022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Interface Esup-Por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5520" y="800280"/>
            <a:ext cx="495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Activation des préférences utilisate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093080" y="2491920"/>
            <a:ext cx="457200" cy="3812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s cont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éfé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k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187280" y="1197000"/>
            <a:ext cx="6951960" cy="5091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258920" y="3213000"/>
            <a:ext cx="6769080" cy="50328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187280" y="1197000"/>
            <a:ext cx="6951960" cy="50911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Interface Esup-Por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réation d'onglets / de colon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s cont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Préfé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k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2411280" y="3644640"/>
            <a:ext cx="0" cy="68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1187280" y="1197000"/>
            <a:ext cx="6985080" cy="5114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V="1">
            <a:off x="6156360" y="3212640"/>
            <a:ext cx="457200" cy="3812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1187280" y="1197000"/>
            <a:ext cx="6967800" cy="5103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 flipV="1">
            <a:off x="5940360" y="3212640"/>
            <a:ext cx="0" cy="68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1187280" y="1197000"/>
            <a:ext cx="6967800" cy="5102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 flipV="1">
            <a:off x="2916360" y="3644640"/>
            <a:ext cx="0" cy="68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1187280" y="1197000"/>
            <a:ext cx="6985080" cy="51148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flipV="1">
            <a:off x="4140360" y="3933360"/>
            <a:ext cx="457200" cy="3812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8"/>
          <a:stretch/>
        </p:blipFill>
        <p:spPr>
          <a:xfrm>
            <a:off x="1187280" y="1197000"/>
            <a:ext cx="6985080" cy="51148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V="1">
            <a:off x="2987640" y="3644640"/>
            <a:ext cx="0" cy="68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9"/>
          <a:stretch/>
        </p:blipFill>
        <p:spPr>
          <a:xfrm>
            <a:off x="1187280" y="1197000"/>
            <a:ext cx="6985080" cy="51148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V="1">
            <a:off x="7308720" y="3933360"/>
            <a:ext cx="457200" cy="3812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1187280" y="1197000"/>
            <a:ext cx="6969240" cy="5103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 flipV="1">
            <a:off x="3419640" y="3644640"/>
            <a:ext cx="0" cy="6858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1"/>
          <a:stretch/>
        </p:blipFill>
        <p:spPr>
          <a:xfrm>
            <a:off x="1187280" y="1197000"/>
            <a:ext cx="6967800" cy="510228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flipV="1">
            <a:off x="2340000" y="5300640"/>
            <a:ext cx="45720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2"/>
          <a:stretch/>
        </p:blipFill>
        <p:spPr>
          <a:xfrm>
            <a:off x="1187280" y="1197000"/>
            <a:ext cx="6969240" cy="5103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 flipV="1">
            <a:off x="5724360" y="4365720"/>
            <a:ext cx="457200" cy="38088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3"/>
          <a:stretch/>
        </p:blipFill>
        <p:spPr>
          <a:xfrm>
            <a:off x="1187280" y="1197000"/>
            <a:ext cx="69519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Interface Esup-Porta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Choix d’un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s conte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éfé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k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258920" y="1268280"/>
            <a:ext cx="6951600" cy="50911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 flipV="1">
            <a:off x="2987640" y="3715920"/>
            <a:ext cx="914400" cy="56844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1258920" y="1268280"/>
            <a:ext cx="6913440" cy="50626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476360" y="4869000"/>
            <a:ext cx="244440" cy="37116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5"/>
          <a:stretch/>
        </p:blipFill>
        <p:spPr>
          <a:xfrm>
            <a:off x="1258920" y="1268280"/>
            <a:ext cx="6951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it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08:09:34Z</dcterms:created>
  <dc:creator>Larchet</dc:creator>
  <dc:description/>
  <dc:language>en-US</dc:language>
  <cp:lastModifiedBy>cbissler</cp:lastModifiedBy>
  <dcterms:modified xsi:type="dcterms:W3CDTF">2005-10-21T11:54:58Z</dcterms:modified>
  <cp:revision>12</cp:revision>
  <dc:subject/>
  <dc:title>Diapositive 1</dc:title>
</cp:coreProperties>
</file>