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13B4-D7BC-42DB-9897-67103FB0D1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ux façons de construire son XML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tiliser des attributs de noe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tiliser des sous-noe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tiliser au maximum les attributs de nœ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tiliser les sous-nœuds pour les attributs multivalu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Éditeurs XML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ML Buddy pour Eclipse (version gratuite &amp; version paya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oktop (grat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ous ensemble d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utes les balises commençant par xsl:XXXX sont des balises réservé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SL possède des instructions permettant de naviguer dans un arbre XML et d'appliquer des templates à tout ou portion de ce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Éditeurs XSL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ML Buddy pour 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ok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'est le moteur qui réalise la transformation du XML à l'aide d'une feuille de style XS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format de sortie peut être quelconque, les plus courants sont HTML, FO (pour réaliser des PDF) et … XML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oktop permet à partir d'une feuille XML et d'une feuille XSL de réaliser la transformation en HTML et de visualiser le résult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DB8-6537-4256-82F4-BD0291FBE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F372-DE01-4C49-AB79-82961427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0279-25B4-4CF4-8C24-62E9458B3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301-3EE1-41AB-A43F-792A9F11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EFC-7B58-4605-AC23-3E435C28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055-AC65-4CBA-92AF-CAD196D6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230B-DB11-4C18-9D1B-7983E74B2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F192-B9B6-4C67-896F-18C3739B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C987-A4B7-46A9-A1E3-75CBBCC3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82A-2E61-47BE-8EFA-9C4748C6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ED76-049B-46C2-9526-A56F388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B3C7-F97E-4285-B750-774737B6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946E-10FA-4A9F-BA07-5B1F92C0E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Developpement_4_Canaux_predefini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c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8569080" cy="484812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group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groupe id="1" name="Groupe Collaboratif 1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membr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membre nom="Durand" prenom="Jean-Paul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membre nom="Dupond" prenom="Daniel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/membr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/grou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groupe id="2" name="Groupe Collaboratif 2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membr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membre nom="Martin" prenom="Jean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membre nom="Grosjean" prenom="Michel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membre nom="Marchal" prenom="Jérémie" 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/membr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/group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ahoma"/>
              </a:rPr>
              <a:t>&lt;/groupes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684360" y="1197000"/>
            <a:ext cx="7848360" cy="5187960"/>
            <a:chOff x="684360" y="1197000"/>
            <a:chExt cx="7848360" cy="5187960"/>
          </a:xfrm>
        </p:grpSpPr>
        <p:sp>
          <p:nvSpPr>
            <p:cNvPr id="66" name=""/>
            <p:cNvSpPr/>
            <p:nvPr/>
          </p:nvSpPr>
          <p:spPr>
            <a:xfrm>
              <a:off x="684360" y="1197000"/>
              <a:ext cx="7848360" cy="5932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ahoma"/>
                </a:rPr>
                <a:t>&lt;?xml version="1.0" encoding="ISO-8859-1" ?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ahoma"/>
                </a:rPr>
                <a:t>&lt;xsl:stylesheet version="1.0" xmlns="http://www.w3.org/1999/XSL/Transform"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4360" y="6093000"/>
              <a:ext cx="7848360" cy="29196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ahoma"/>
                </a:rPr>
                <a:t>&lt;/xsl:stylesheet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4360" y="1844640"/>
            <a:ext cx="7848360" cy="420912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xsl:template match="xml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xsl:apply-templates select="./balises/balise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xsl:call-template name="toto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/xsl:templat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xsl:template match="balise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/xsl:templat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xsl:template name="toto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…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/xsl:templat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484360" y="1700280"/>
            <a:ext cx="1440000" cy="1657440"/>
          </a:xfrm>
          <a:prstGeom prst="foldedCorner">
            <a:avLst>
              <a:gd name="adj" fmla="val 12500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88000" y="1700280"/>
            <a:ext cx="1439640" cy="165744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227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88000" y="227664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64000" y="3860640"/>
            <a:ext cx="1584360" cy="107964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4149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364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08720" y="3357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03640" y="3645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645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67280" y="3645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364500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5734080"/>
            <a:ext cx="649440" cy="7905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80000" y="5734080"/>
            <a:ext cx="649440" cy="7905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24440" y="5734080"/>
            <a:ext cx="649080" cy="790560"/>
          </a:xfrm>
          <a:prstGeom prst="foldedCorner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3059280" y="4941720"/>
            <a:ext cx="129672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494172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4941720"/>
            <a:ext cx="1224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950080"/>
            <a:ext cx="79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htm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52800" y="5969160"/>
            <a:ext cx="79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XM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08720" y="5950080"/>
            <a:ext cx="792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F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(PDF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it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issler</cp:lastModifiedBy>
  <dcterms:modified xsi:type="dcterms:W3CDTF">2005-10-21T12:22:17Z</dcterms:modified>
  <cp:revision>33</cp:revision>
  <dc:subject/>
  <dc:title>PowerPoint Presentation</dc:title>
</cp:coreProperties>
</file>