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2AD6-F3E3-482F-B865-7E3D62E85A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onctionnement u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canaux produisent des informations au format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Framework fusionne les arbres XML des canaux s'affichant dans une même p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moteur XSLT choisi la feuille de style correspondant au client et réalise la transformation afin de produire des données correspondant au type de cli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rendu est indépendant des données produites par l'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va vs 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va vs 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llure de la courbe montrant la vitesse de service en fonction du nombre de connex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xplication de l'allure de la courbe par le mécanismes des contextes imbriqué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ML vs 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ML – Langage de balises restre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s données sont mélangées aux informations concernant la mise en forme (loo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rsque le HTML est généré dynamiquement, il devient très compliqué de faire évoluer le l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ML vs 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ML – Langage de balises généralis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ègles strictes concernant l'imbrication et l'ouverture/fermeture de bal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insi HTML est un sous-espace de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i du code HTML est inclus dans un fichier XML quelconque, il est impératif de fermer toute balise ouverte y compris les 'mono' balise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br&gt;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&lt;br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input type="text" name="toto"&gt;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&lt;input …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meta-…&gt;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&lt;meta-… 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ML vs 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SL – Sous espace de XML (certains noms de balise sont réservés, ils sont tous préfixés par xsl: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SL est destiné à la transformation d'arbres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e langage de sortie après la transformation est quelconque. On peut trouver du XML (ainsi que ses sous-espaces, XML, XSL, HTML…) ou des langages complètement différents (FO pour la création de fichiers PDF, PS pour l'impression directe 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ans tous les cas, XSL ne modifie jamais la sémantique des données, il se contente de les mettre en for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C49C-3735-4516-908E-7C1BA784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3B33-DFEB-4599-9CBC-6E3221ECC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F1DF-EE86-4C2B-9377-B2F59B71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380D-3E0D-4218-8B97-4C26B748F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E71C-55EF-4D4E-BBCA-724DDDCE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B421-6C1D-4419-B2D4-84EE293F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1300-8A51-417E-9636-21A5D6BF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2A72-FEA9-4790-B7AD-1794DA40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94C-5C3D-4735-84D6-978AC2B6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2CEF-2584-4A16-A57A-591EC619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B0C-0504-48EE-9019-0BF6B423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EBE2-9B80-4555-8FA5-17F75798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3C8B-A95A-4AE7-A943-B82116585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Developpement_2_Environnement.ppt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U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Fonctionnement u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Java/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XML/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Les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468360" y="1413000"/>
            <a:ext cx="5472000" cy="4895640"/>
            <a:chOff x="468360" y="1413000"/>
            <a:chExt cx="5472000" cy="4895640"/>
          </a:xfrm>
        </p:grpSpPr>
        <p:sp>
          <p:nvSpPr>
            <p:cNvPr id="55" name=""/>
            <p:cNvSpPr/>
            <p:nvPr/>
          </p:nvSpPr>
          <p:spPr>
            <a:xfrm>
              <a:off x="468360" y="1413000"/>
              <a:ext cx="5472000" cy="4895640"/>
            </a:xfrm>
            <a:prstGeom prst="roundRect">
              <a:avLst>
                <a:gd name="adj" fmla="val 16667"/>
              </a:avLst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42920" y="1413000"/>
              <a:ext cx="424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uPor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755640" y="1773360"/>
            <a:ext cx="2521080" cy="4248000"/>
            <a:chOff x="755640" y="1773360"/>
            <a:chExt cx="2521080" cy="4248000"/>
          </a:xfrm>
        </p:grpSpPr>
        <p:sp>
          <p:nvSpPr>
            <p:cNvPr id="58" name=""/>
            <p:cNvSpPr/>
            <p:nvPr/>
          </p:nvSpPr>
          <p:spPr>
            <a:xfrm>
              <a:off x="755640" y="1773360"/>
              <a:ext cx="2521080" cy="4248000"/>
            </a:xfrm>
            <a:custGeom>
              <a:avLst/>
              <a:gdLst>
                <a:gd name="textAreaLeft" fmla="*/ 122760 w 2521080"/>
                <a:gd name="textAreaRight" fmla="*/ 2398320 w 2521080"/>
                <a:gd name="textAreaTop" fmla="*/ 122760 h 4248000"/>
                <a:gd name="textAreaBottom" fmla="*/ 4125240 h 4248000"/>
              </a:gdLst>
              <a:ahLst/>
              <a:rect l="textAreaLeft" t="textAreaTop" r="textAreaRight" b="textAreaBottom"/>
              <a:pathLst>
                <a:path w="21600" h="36394">
                  <a:moveTo>
                    <a:pt x="3600" y="0"/>
                  </a:moveTo>
                  <a:arcTo wR="3600" hR="3600" stAng="16200000" swAng="-5400000"/>
                  <a:lnTo>
                    <a:pt x="0" y="32794"/>
                  </a:lnTo>
                  <a:arcTo wR="3600" hR="3600" stAng="10800000" swAng="-5400000"/>
                  <a:lnTo>
                    <a:pt x="18000" y="363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16000" y="1844640"/>
              <a:ext cx="172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Tahoma"/>
                </a:rPr>
                <a:t>Framewor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995640" y="3213000"/>
            <a:ext cx="1584360" cy="1800360"/>
            <a:chOff x="3995640" y="3213000"/>
            <a:chExt cx="1584360" cy="1800360"/>
          </a:xfrm>
        </p:grpSpPr>
        <p:sp>
          <p:nvSpPr>
            <p:cNvPr id="61" name=""/>
            <p:cNvSpPr/>
            <p:nvPr/>
          </p:nvSpPr>
          <p:spPr>
            <a:xfrm>
              <a:off x="3995640" y="3213000"/>
              <a:ext cx="1584360" cy="180036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1800360"/>
                <a:gd name="textAreaBottom" fmla="*/ 1723320 h 1800360"/>
              </a:gdLst>
              <a:ahLst/>
              <a:rect l="textAreaLeft" t="textAreaTop" r="textAreaRight" b="textAreaBottom"/>
              <a:pathLst>
                <a:path w="21600" h="24544">
                  <a:moveTo>
                    <a:pt x="3600" y="0"/>
                  </a:moveTo>
                  <a:arcTo wR="3600" hR="3600" stAng="16200000" swAng="-5400000"/>
                  <a:lnTo>
                    <a:pt x="0" y="20944"/>
                  </a:lnTo>
                  <a:arcTo wR="3600" hR="3600" stAng="10800000" swAng="-5400000"/>
                  <a:lnTo>
                    <a:pt x="18000" y="245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40360" y="342900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Tahoma"/>
                </a:rPr>
                <a:t>Moteur XSL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116000" y="2276640"/>
            <a:ext cx="1079640" cy="3528720"/>
            <a:chOff x="1116000" y="2276640"/>
            <a:chExt cx="1079640" cy="3528720"/>
          </a:xfrm>
        </p:grpSpPr>
        <p:grpSp>
          <p:nvGrpSpPr>
            <p:cNvPr id="64" name=""/>
            <p:cNvGrpSpPr/>
            <p:nvPr/>
          </p:nvGrpSpPr>
          <p:grpSpPr>
            <a:xfrm>
              <a:off x="1116000" y="2276640"/>
              <a:ext cx="1079640" cy="1081080"/>
              <a:chOff x="1116000" y="2276640"/>
              <a:chExt cx="1079640" cy="1081080"/>
            </a:xfrm>
          </p:grpSpPr>
          <p:sp>
            <p:nvSpPr>
              <p:cNvPr id="65" name=""/>
              <p:cNvSpPr/>
              <p:nvPr/>
            </p:nvSpPr>
            <p:spPr>
              <a:xfrm>
                <a:off x="1116000" y="2276640"/>
                <a:ext cx="1079640" cy="1081080"/>
              </a:xfrm>
              <a:custGeom>
                <a:avLst/>
                <a:gdLst>
                  <a:gd name="textAreaLeft" fmla="*/ 52560 w 1079640"/>
                  <a:gd name="textAreaRight" fmla="*/ 1027080 w 1079640"/>
                  <a:gd name="textAreaTop" fmla="*/ 52560 h 1081080"/>
                  <a:gd name="textAreaBottom" fmla="*/ 1028520 h 1081080"/>
                </a:gdLst>
                <a:ahLst/>
                <a:rect l="textAreaLeft" t="textAreaTop" r="textAreaRight" b="textAreaBottom"/>
                <a:pathLst>
                  <a:path w="21600" h="21629">
                    <a:moveTo>
                      <a:pt x="3600" y="0"/>
                    </a:moveTo>
                    <a:arcTo wR="3600" hR="3600" stAng="16200000" swAng="-5400000"/>
                    <a:lnTo>
                      <a:pt x="0" y="18029"/>
                    </a:lnTo>
                    <a:arcTo wR="3600" hR="3600" stAng="10800000" swAng="-5400000"/>
                    <a:lnTo>
                      <a:pt x="18000" y="216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187280" y="2349360"/>
                <a:ext cx="93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Tahoma"/>
                  </a:rPr>
                  <a:t>Can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1116000" y="4724280"/>
              <a:ext cx="1079640" cy="1081080"/>
              <a:chOff x="1116000" y="4724280"/>
              <a:chExt cx="1079640" cy="1081080"/>
            </a:xfrm>
          </p:grpSpPr>
          <p:sp>
            <p:nvSpPr>
              <p:cNvPr id="68" name=""/>
              <p:cNvSpPr/>
              <p:nvPr/>
            </p:nvSpPr>
            <p:spPr>
              <a:xfrm>
                <a:off x="1116000" y="4724280"/>
                <a:ext cx="1079640" cy="1081080"/>
              </a:xfrm>
              <a:custGeom>
                <a:avLst/>
                <a:gdLst>
                  <a:gd name="textAreaLeft" fmla="*/ 52560 w 1079640"/>
                  <a:gd name="textAreaRight" fmla="*/ 1027080 w 1079640"/>
                  <a:gd name="textAreaTop" fmla="*/ 52560 h 1081080"/>
                  <a:gd name="textAreaBottom" fmla="*/ 1028520 h 1081080"/>
                </a:gdLst>
                <a:ahLst/>
                <a:rect l="textAreaLeft" t="textAreaTop" r="textAreaRight" b="textAreaBottom"/>
                <a:pathLst>
                  <a:path w="21600" h="21629">
                    <a:moveTo>
                      <a:pt x="3600" y="0"/>
                    </a:moveTo>
                    <a:arcTo wR="3600" hR="3600" stAng="16200000" swAng="-5400000"/>
                    <a:lnTo>
                      <a:pt x="0" y="18029"/>
                    </a:lnTo>
                    <a:arcTo wR="3600" hR="3600" stAng="10800000" swAng="-5400000"/>
                    <a:lnTo>
                      <a:pt x="18000" y="216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187280" y="4869000"/>
                <a:ext cx="93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Tahoma"/>
                  </a:rPr>
                  <a:t>Can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"/>
            <p:cNvGrpSpPr/>
            <p:nvPr/>
          </p:nvGrpSpPr>
          <p:grpSpPr>
            <a:xfrm>
              <a:off x="1116000" y="3500280"/>
              <a:ext cx="1079640" cy="1081080"/>
              <a:chOff x="1116000" y="3500280"/>
              <a:chExt cx="1079640" cy="1081080"/>
            </a:xfrm>
          </p:grpSpPr>
          <p:sp>
            <p:nvSpPr>
              <p:cNvPr id="71" name=""/>
              <p:cNvSpPr/>
              <p:nvPr/>
            </p:nvSpPr>
            <p:spPr>
              <a:xfrm>
                <a:off x="1116000" y="3500280"/>
                <a:ext cx="1079640" cy="1081080"/>
              </a:xfrm>
              <a:custGeom>
                <a:avLst/>
                <a:gdLst>
                  <a:gd name="textAreaLeft" fmla="*/ 52560 w 1079640"/>
                  <a:gd name="textAreaRight" fmla="*/ 1027080 w 1079640"/>
                  <a:gd name="textAreaTop" fmla="*/ 52560 h 1081080"/>
                  <a:gd name="textAreaBottom" fmla="*/ 1028520 h 1081080"/>
                </a:gdLst>
                <a:ahLst/>
                <a:rect l="textAreaLeft" t="textAreaTop" r="textAreaRight" b="textAreaBottom"/>
                <a:pathLst>
                  <a:path w="21600" h="21629">
                    <a:moveTo>
                      <a:pt x="3600" y="0"/>
                    </a:moveTo>
                    <a:arcTo wR="3600" hR="3600" stAng="16200000" swAng="-5400000"/>
                    <a:lnTo>
                      <a:pt x="0" y="18029"/>
                    </a:lnTo>
                    <a:arcTo wR="3600" hR="3600" stAng="10800000" swAng="-5400000"/>
                    <a:lnTo>
                      <a:pt x="18000" y="216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189080" y="3645000"/>
                <a:ext cx="93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Tahoma"/>
                  </a:rPr>
                  <a:t>Can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" name=""/>
          <p:cNvGrpSpPr/>
          <p:nvPr/>
        </p:nvGrpSpPr>
        <p:grpSpPr>
          <a:xfrm>
            <a:off x="2195640" y="2492280"/>
            <a:ext cx="1800000" cy="2809800"/>
            <a:chOff x="2195640" y="2492280"/>
            <a:chExt cx="1800000" cy="2809800"/>
          </a:xfrm>
        </p:grpSpPr>
        <p:sp>
          <p:nvSpPr>
            <p:cNvPr id="74" name=""/>
            <p:cNvSpPr/>
            <p:nvPr/>
          </p:nvSpPr>
          <p:spPr>
            <a:xfrm>
              <a:off x="2195640" y="2781360"/>
              <a:ext cx="50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95640" y="249228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ahoma"/>
                </a:rPr>
                <a:t>X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95640" y="4078440"/>
              <a:ext cx="50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95640" y="378936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ahoma"/>
                </a:rPr>
                <a:t>X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195640" y="5302080"/>
              <a:ext cx="50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95640" y="501336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ahoma"/>
                </a:rPr>
                <a:t>XM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700360" y="2781360"/>
              <a:ext cx="0" cy="251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00360" y="4076640"/>
              <a:ext cx="12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27640" y="1700280"/>
            <a:ext cx="649080" cy="1512720"/>
            <a:chOff x="4427640" y="1700280"/>
            <a:chExt cx="649080" cy="1512720"/>
          </a:xfrm>
        </p:grpSpPr>
        <p:grpSp>
          <p:nvGrpSpPr>
            <p:cNvPr id="83" name=""/>
            <p:cNvGrpSpPr/>
            <p:nvPr/>
          </p:nvGrpSpPr>
          <p:grpSpPr>
            <a:xfrm>
              <a:off x="4427640" y="1700280"/>
              <a:ext cx="649080" cy="792000"/>
              <a:chOff x="4427640" y="1700280"/>
              <a:chExt cx="649080" cy="792000"/>
            </a:xfrm>
          </p:grpSpPr>
          <p:sp>
            <p:nvSpPr>
              <p:cNvPr id="84" name=""/>
              <p:cNvSpPr/>
              <p:nvPr/>
            </p:nvSpPr>
            <p:spPr>
              <a:xfrm>
                <a:off x="4427640" y="1700280"/>
                <a:ext cx="649080" cy="792000"/>
              </a:xfrm>
              <a:prstGeom prst="can">
                <a:avLst>
                  <a:gd name="adj" fmla="val 2500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427640" y="1989000"/>
                <a:ext cx="649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ahoma"/>
                  </a:rPr>
                  <a:t>XS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>
              <a:off x="4749840" y="2492280"/>
              <a:ext cx="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5580000" y="2060640"/>
            <a:ext cx="3022560" cy="3959280"/>
            <a:chOff x="5580000" y="2060640"/>
            <a:chExt cx="3022560" cy="3959280"/>
          </a:xfrm>
        </p:grpSpPr>
        <p:grpSp>
          <p:nvGrpSpPr>
            <p:cNvPr id="88" name=""/>
            <p:cNvGrpSpPr/>
            <p:nvPr/>
          </p:nvGrpSpPr>
          <p:grpSpPr>
            <a:xfrm>
              <a:off x="6804000" y="2060640"/>
              <a:ext cx="1798560" cy="503280"/>
              <a:chOff x="6804000" y="2060640"/>
              <a:chExt cx="1798560" cy="503280"/>
            </a:xfrm>
          </p:grpSpPr>
          <p:sp>
            <p:nvSpPr>
              <p:cNvPr id="89" name=""/>
              <p:cNvSpPr/>
              <p:nvPr/>
            </p:nvSpPr>
            <p:spPr>
              <a:xfrm>
                <a:off x="6804000" y="2060640"/>
                <a:ext cx="1798560" cy="503280"/>
              </a:xfrm>
              <a:prstGeom prst="roundRect">
                <a:avLst>
                  <a:gd name="adj" fmla="val 16667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804000" y="2132280"/>
                <a:ext cx="179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ahoma"/>
                  </a:rPr>
                  <a:t>Internet Explor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6804000" y="2924280"/>
              <a:ext cx="1798560" cy="503280"/>
              <a:chOff x="6804000" y="2924280"/>
              <a:chExt cx="1798560" cy="503280"/>
            </a:xfrm>
          </p:grpSpPr>
          <p:sp>
            <p:nvSpPr>
              <p:cNvPr id="92" name=""/>
              <p:cNvSpPr/>
              <p:nvPr/>
            </p:nvSpPr>
            <p:spPr>
              <a:xfrm>
                <a:off x="6804000" y="2924280"/>
                <a:ext cx="1798560" cy="503280"/>
              </a:xfrm>
              <a:prstGeom prst="roundRect">
                <a:avLst>
                  <a:gd name="adj" fmla="val 16667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804000" y="2995920"/>
                <a:ext cx="179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ahoma"/>
                  </a:rPr>
                  <a:t>Mozill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6804000" y="3787920"/>
              <a:ext cx="1798560" cy="502920"/>
              <a:chOff x="6804000" y="3787920"/>
              <a:chExt cx="1798560" cy="502920"/>
            </a:xfrm>
          </p:grpSpPr>
          <p:sp>
            <p:nvSpPr>
              <p:cNvPr id="95" name=""/>
              <p:cNvSpPr/>
              <p:nvPr/>
            </p:nvSpPr>
            <p:spPr>
              <a:xfrm>
                <a:off x="6804000" y="3787920"/>
                <a:ext cx="1798560" cy="502920"/>
              </a:xfrm>
              <a:prstGeom prst="roundRect">
                <a:avLst>
                  <a:gd name="adj" fmla="val 16667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04000" y="3859200"/>
                <a:ext cx="179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ahoma"/>
                  </a:rPr>
                  <a:t>Netsca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6804000" y="4653000"/>
              <a:ext cx="1798560" cy="503280"/>
              <a:chOff x="6804000" y="4653000"/>
              <a:chExt cx="1798560" cy="503280"/>
            </a:xfrm>
          </p:grpSpPr>
          <p:sp>
            <p:nvSpPr>
              <p:cNvPr id="98" name=""/>
              <p:cNvSpPr/>
              <p:nvPr/>
            </p:nvSpPr>
            <p:spPr>
              <a:xfrm>
                <a:off x="6804000" y="4653000"/>
                <a:ext cx="1798560" cy="503280"/>
              </a:xfrm>
              <a:prstGeom prst="roundRect">
                <a:avLst>
                  <a:gd name="adj" fmla="val 16667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804000" y="4724640"/>
                <a:ext cx="179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ahoma"/>
                  </a:rPr>
                  <a:t>W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804000" y="5516640"/>
              <a:ext cx="1798560" cy="503280"/>
              <a:chOff x="6804000" y="5516640"/>
              <a:chExt cx="1798560" cy="503280"/>
            </a:xfrm>
          </p:grpSpPr>
          <p:sp>
            <p:nvSpPr>
              <p:cNvPr id="101" name=""/>
              <p:cNvSpPr/>
              <p:nvPr/>
            </p:nvSpPr>
            <p:spPr>
              <a:xfrm>
                <a:off x="6804000" y="5516640"/>
                <a:ext cx="1798560" cy="503280"/>
              </a:xfrm>
              <a:prstGeom prst="roundRect">
                <a:avLst>
                  <a:gd name="adj" fmla="val 16667"/>
                </a:avLst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804000" y="5588280"/>
                <a:ext cx="1798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ahoma"/>
                  </a:rPr>
                  <a:t>PD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580000" y="2349360"/>
              <a:ext cx="1224000" cy="3384720"/>
              <a:chOff x="5580000" y="2349360"/>
              <a:chExt cx="1224000" cy="3384720"/>
            </a:xfrm>
          </p:grpSpPr>
          <p:sp>
            <p:nvSpPr>
              <p:cNvPr id="104" name=""/>
              <p:cNvSpPr/>
              <p:nvPr/>
            </p:nvSpPr>
            <p:spPr>
              <a:xfrm>
                <a:off x="5580000" y="4076640"/>
                <a:ext cx="72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300720" y="2349360"/>
                <a:ext cx="0" cy="338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300720" y="234936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300720" y="314172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300720" y="407664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300720" y="494172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300720" y="573408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Avantages et inconvéni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68360" y="1773360"/>
            <a:ext cx="3959280" cy="410040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égradation des performances l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Une partie du code est mutualis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Gestion des erreurs fine (except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aramétrage du serveur applicatif poussé afin d'accroître les perform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ombreuses librairies applic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déal pour de grosses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1773360"/>
            <a:ext cx="3959280" cy="410040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Dégradation des performances rap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Tout le code est dupliqu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Gestion des erreurs grossière (au bon vouloir du programmeu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as de paramétrage fin du serveur applicatif, les performances auront une limite défi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Nombreuses librairies applic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Idéal pour de petites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8360" y="1268280"/>
            <a:ext cx="395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ff33cc"/>
                </a:solidFill>
                <a:latin typeface="Tahoma"/>
              </a:rPr>
              <a:t>Ja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1268280"/>
            <a:ext cx="3959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200" spc="-1" strike="noStrike">
                <a:solidFill>
                  <a:srgbClr val="ff33cc"/>
                </a:solidFill>
                <a:latin typeface="Tahoma"/>
              </a:rPr>
              <a:t>PH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U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Java/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XML/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Les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Perform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468360" y="1268280"/>
            <a:ext cx="8207280" cy="429120"/>
            <a:chOff x="468360" y="1268280"/>
            <a:chExt cx="8207280" cy="429120"/>
          </a:xfrm>
        </p:grpSpPr>
        <p:sp>
          <p:nvSpPr>
            <p:cNvPr id="124" name=""/>
            <p:cNvSpPr/>
            <p:nvPr/>
          </p:nvSpPr>
          <p:spPr>
            <a:xfrm>
              <a:off x="468360" y="1268280"/>
              <a:ext cx="395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200" spc="-1" strike="noStrike">
                  <a:solidFill>
                    <a:srgbClr val="ff33cc"/>
                  </a:solidFill>
                  <a:latin typeface="Tahoma"/>
                </a:rPr>
                <a:t>Jav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16360" y="1268280"/>
              <a:ext cx="39592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200" spc="-1" strike="noStrike">
                  <a:solidFill>
                    <a:srgbClr val="ff33cc"/>
                  </a:solidFill>
                  <a:latin typeface="Tahoma"/>
                </a:rPr>
                <a:t>PHP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826920" y="4149720"/>
            <a:ext cx="7200720" cy="792000"/>
            <a:chOff x="826920" y="4149720"/>
            <a:chExt cx="7200720" cy="792000"/>
          </a:xfrm>
        </p:grpSpPr>
        <p:sp>
          <p:nvSpPr>
            <p:cNvPr id="127" name=""/>
            <p:cNvSpPr/>
            <p:nvPr/>
          </p:nvSpPr>
          <p:spPr>
            <a:xfrm>
              <a:off x="826920" y="4149720"/>
              <a:ext cx="3960720" cy="792000"/>
            </a:xfrm>
            <a:prstGeom prst="rect">
              <a:avLst/>
            </a:prstGeom>
            <a:solidFill>
              <a:srgbClr val="9966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074920" y="4221000"/>
              <a:ext cx="2952720" cy="33732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Tahoma"/>
                </a:rPr>
                <a:t>Contexte contene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826920" y="4941720"/>
            <a:ext cx="7200720" cy="792000"/>
            <a:chOff x="826920" y="4941720"/>
            <a:chExt cx="7200720" cy="792000"/>
          </a:xfrm>
        </p:grpSpPr>
        <p:sp>
          <p:nvSpPr>
            <p:cNvPr id="130" name=""/>
            <p:cNvSpPr/>
            <p:nvPr/>
          </p:nvSpPr>
          <p:spPr>
            <a:xfrm>
              <a:off x="826920" y="4941720"/>
              <a:ext cx="3960720" cy="7920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074920" y="5084640"/>
              <a:ext cx="295272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Tahoma"/>
                </a:rPr>
                <a:t>Contexte applicati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826920" y="5734080"/>
            <a:ext cx="7200720" cy="792000"/>
            <a:chOff x="826920" y="5734080"/>
            <a:chExt cx="7200720" cy="792000"/>
          </a:xfrm>
        </p:grpSpPr>
        <p:sp>
          <p:nvSpPr>
            <p:cNvPr id="133" name=""/>
            <p:cNvSpPr/>
            <p:nvPr/>
          </p:nvSpPr>
          <p:spPr>
            <a:xfrm>
              <a:off x="826920" y="5734080"/>
              <a:ext cx="3960720" cy="7920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74920" y="5876640"/>
              <a:ext cx="2952720" cy="33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ahoma"/>
                </a:rPr>
                <a:t>Contexte utilisateu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763640" y="5734080"/>
            <a:ext cx="647640" cy="792000"/>
            <a:chOff x="1763640" y="5734080"/>
            <a:chExt cx="647640" cy="792000"/>
          </a:xfrm>
        </p:grpSpPr>
        <p:sp>
          <p:nvSpPr>
            <p:cNvPr id="136" name=""/>
            <p:cNvSpPr/>
            <p:nvPr/>
          </p:nvSpPr>
          <p:spPr>
            <a:xfrm>
              <a:off x="2411280" y="5734080"/>
              <a:ext cx="0" cy="79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763640" y="5877000"/>
              <a:ext cx="503280" cy="504720"/>
              <a:chOff x="1763640" y="5877000"/>
              <a:chExt cx="503280" cy="504720"/>
            </a:xfrm>
          </p:grpSpPr>
          <p:sp>
            <p:nvSpPr>
              <p:cNvPr id="138" name=""/>
              <p:cNvSpPr/>
              <p:nvPr/>
            </p:nvSpPr>
            <p:spPr>
              <a:xfrm>
                <a:off x="1763640" y="5877000"/>
                <a:ext cx="216000" cy="21600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051280" y="5877000"/>
                <a:ext cx="215640" cy="21600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763640" y="6166080"/>
                <a:ext cx="216000" cy="21564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051280" y="6166080"/>
                <a:ext cx="215640" cy="21564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" name=""/>
          <p:cNvGrpSpPr/>
          <p:nvPr/>
        </p:nvGrpSpPr>
        <p:grpSpPr>
          <a:xfrm>
            <a:off x="2556000" y="5734080"/>
            <a:ext cx="647640" cy="792000"/>
            <a:chOff x="2556000" y="5734080"/>
            <a:chExt cx="647640" cy="792000"/>
          </a:xfrm>
        </p:grpSpPr>
        <p:sp>
          <p:nvSpPr>
            <p:cNvPr id="143" name=""/>
            <p:cNvSpPr/>
            <p:nvPr/>
          </p:nvSpPr>
          <p:spPr>
            <a:xfrm>
              <a:off x="3203640" y="5734080"/>
              <a:ext cx="0" cy="79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2556000" y="5877000"/>
              <a:ext cx="503280" cy="504720"/>
              <a:chOff x="2556000" y="5877000"/>
              <a:chExt cx="503280" cy="504720"/>
            </a:xfrm>
          </p:grpSpPr>
          <p:sp>
            <p:nvSpPr>
              <p:cNvPr id="145" name=""/>
              <p:cNvSpPr/>
              <p:nvPr/>
            </p:nvSpPr>
            <p:spPr>
              <a:xfrm>
                <a:off x="2556000" y="5877000"/>
                <a:ext cx="216000" cy="21600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843280" y="5877000"/>
                <a:ext cx="216000" cy="21600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556000" y="6166080"/>
                <a:ext cx="216000" cy="21564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43280" y="6166080"/>
                <a:ext cx="216000" cy="21564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4140360" y="5877000"/>
            <a:ext cx="502560" cy="504720"/>
            <a:chOff x="4140360" y="5877000"/>
            <a:chExt cx="502560" cy="504720"/>
          </a:xfrm>
        </p:grpSpPr>
        <p:sp>
          <p:nvSpPr>
            <p:cNvPr id="150" name=""/>
            <p:cNvSpPr/>
            <p:nvPr/>
          </p:nvSpPr>
          <p:spPr>
            <a:xfrm>
              <a:off x="4140360" y="587700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27280" y="5877000"/>
              <a:ext cx="215640" cy="2160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40360" y="6166080"/>
              <a:ext cx="215640" cy="2156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27280" y="6166080"/>
              <a:ext cx="215640" cy="21564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257560" y="4941720"/>
            <a:ext cx="1234800" cy="792360"/>
            <a:chOff x="2257560" y="4941720"/>
            <a:chExt cx="1234800" cy="792360"/>
          </a:xfrm>
        </p:grpSpPr>
        <p:sp>
          <p:nvSpPr>
            <p:cNvPr id="155" name=""/>
            <p:cNvSpPr/>
            <p:nvPr/>
          </p:nvSpPr>
          <p:spPr>
            <a:xfrm>
              <a:off x="3492360" y="4941720"/>
              <a:ext cx="0" cy="792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2257560" y="5094360"/>
              <a:ext cx="1128600" cy="360360"/>
              <a:chOff x="2257560" y="5094360"/>
              <a:chExt cx="1128600" cy="360360"/>
            </a:xfrm>
          </p:grpSpPr>
          <p:sp>
            <p:nvSpPr>
              <p:cNvPr id="157" name=""/>
              <p:cNvSpPr/>
              <p:nvPr/>
            </p:nvSpPr>
            <p:spPr>
              <a:xfrm>
                <a:off x="2257560" y="5094360"/>
                <a:ext cx="360360" cy="36036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025800" y="5094360"/>
                <a:ext cx="360360" cy="36036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641680" y="5094360"/>
                <a:ext cx="360360" cy="36036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3348000" y="5084640"/>
            <a:ext cx="1368000" cy="1441440"/>
            <a:chOff x="3348000" y="5084640"/>
            <a:chExt cx="1368000" cy="1441440"/>
          </a:xfrm>
        </p:grpSpPr>
        <p:grpSp>
          <p:nvGrpSpPr>
            <p:cNvPr id="161" name=""/>
            <p:cNvGrpSpPr/>
            <p:nvPr/>
          </p:nvGrpSpPr>
          <p:grpSpPr>
            <a:xfrm>
              <a:off x="3348000" y="5734080"/>
              <a:ext cx="647640" cy="792000"/>
              <a:chOff x="3348000" y="5734080"/>
              <a:chExt cx="647640" cy="792000"/>
            </a:xfrm>
          </p:grpSpPr>
          <p:sp>
            <p:nvSpPr>
              <p:cNvPr id="162" name=""/>
              <p:cNvSpPr/>
              <p:nvPr/>
            </p:nvSpPr>
            <p:spPr>
              <a:xfrm>
                <a:off x="3995640" y="5734080"/>
                <a:ext cx="0" cy="79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3348000" y="5877000"/>
                <a:ext cx="503280" cy="504720"/>
                <a:chOff x="3348000" y="5877000"/>
                <a:chExt cx="503280" cy="50472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3348000" y="5877000"/>
                  <a:ext cx="216000" cy="216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635640" y="5877000"/>
                  <a:ext cx="215640" cy="216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348000" y="6166080"/>
                  <a:ext cx="216000" cy="215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635640" y="6166080"/>
                  <a:ext cx="215640" cy="215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8" name=""/>
            <p:cNvGrpSpPr/>
            <p:nvPr/>
          </p:nvGrpSpPr>
          <p:grpSpPr>
            <a:xfrm>
              <a:off x="3587760" y="5084640"/>
              <a:ext cx="1128240" cy="360360"/>
              <a:chOff x="3587760" y="5084640"/>
              <a:chExt cx="1128240" cy="360360"/>
            </a:xfrm>
          </p:grpSpPr>
          <p:sp>
            <p:nvSpPr>
              <p:cNvPr id="169" name=""/>
              <p:cNvSpPr/>
              <p:nvPr/>
            </p:nvSpPr>
            <p:spPr>
              <a:xfrm>
                <a:off x="3587760" y="50846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356000" y="50846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971520" y="5084640"/>
                <a:ext cx="360000" cy="36036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923760" y="4221000"/>
            <a:ext cx="3719160" cy="2305080"/>
            <a:chOff x="923760" y="4221000"/>
            <a:chExt cx="3719160" cy="2305080"/>
          </a:xfrm>
        </p:grpSpPr>
        <p:grpSp>
          <p:nvGrpSpPr>
            <p:cNvPr id="173" name=""/>
            <p:cNvGrpSpPr/>
            <p:nvPr/>
          </p:nvGrpSpPr>
          <p:grpSpPr>
            <a:xfrm>
              <a:off x="971640" y="5734080"/>
              <a:ext cx="647640" cy="792000"/>
              <a:chOff x="971640" y="5734080"/>
              <a:chExt cx="647640" cy="792000"/>
            </a:xfrm>
          </p:grpSpPr>
          <p:sp>
            <p:nvSpPr>
              <p:cNvPr id="174" name=""/>
              <p:cNvSpPr/>
              <p:nvPr/>
            </p:nvSpPr>
            <p:spPr>
              <a:xfrm>
                <a:off x="1619280" y="5734080"/>
                <a:ext cx="0" cy="792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971640" y="5877000"/>
                <a:ext cx="503280" cy="504720"/>
                <a:chOff x="971640" y="5877000"/>
                <a:chExt cx="503280" cy="50472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971640" y="5877000"/>
                  <a:ext cx="216000" cy="216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1258920" y="5877000"/>
                  <a:ext cx="216000" cy="21600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971640" y="6166080"/>
                  <a:ext cx="216000" cy="215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258920" y="6166080"/>
                  <a:ext cx="216000" cy="215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" name=""/>
            <p:cNvGrpSpPr/>
            <p:nvPr/>
          </p:nvGrpSpPr>
          <p:grpSpPr>
            <a:xfrm>
              <a:off x="923760" y="4941720"/>
              <a:ext cx="1200240" cy="792360"/>
              <a:chOff x="923760" y="4941720"/>
              <a:chExt cx="1200240" cy="792360"/>
            </a:xfrm>
          </p:grpSpPr>
          <p:sp>
            <p:nvSpPr>
              <p:cNvPr id="181" name=""/>
              <p:cNvSpPr/>
              <p:nvPr/>
            </p:nvSpPr>
            <p:spPr>
              <a:xfrm>
                <a:off x="2124000" y="4941720"/>
                <a:ext cx="0" cy="792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923760" y="5084640"/>
                <a:ext cx="1128600" cy="360360"/>
                <a:chOff x="923760" y="5084640"/>
                <a:chExt cx="1128600" cy="3603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923760" y="5084640"/>
                  <a:ext cx="36036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692000" y="5084640"/>
                  <a:ext cx="36036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07880" y="5084640"/>
                  <a:ext cx="360360" cy="360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6" name=""/>
            <p:cNvGrpSpPr/>
            <p:nvPr/>
          </p:nvGrpSpPr>
          <p:grpSpPr>
            <a:xfrm>
              <a:off x="971640" y="4221000"/>
              <a:ext cx="3671280" cy="576000"/>
              <a:chOff x="971640" y="4221000"/>
              <a:chExt cx="3671280" cy="576000"/>
            </a:xfrm>
          </p:grpSpPr>
          <p:sp>
            <p:nvSpPr>
              <p:cNvPr id="187" name=""/>
              <p:cNvSpPr/>
              <p:nvPr/>
            </p:nvSpPr>
            <p:spPr>
              <a:xfrm>
                <a:off x="971640" y="4221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9280" y="4221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58920" y="4221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066920" y="4221000"/>
                <a:ext cx="576000" cy="576000"/>
              </a:xfrm>
              <a:prstGeom prst="cube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" name=""/>
          <p:cNvGrpSpPr/>
          <p:nvPr/>
        </p:nvGrpSpPr>
        <p:grpSpPr>
          <a:xfrm>
            <a:off x="250920" y="1916280"/>
            <a:ext cx="8208720" cy="1860480"/>
            <a:chOff x="250920" y="1916280"/>
            <a:chExt cx="8208720" cy="1860480"/>
          </a:xfrm>
        </p:grpSpPr>
        <p:grpSp>
          <p:nvGrpSpPr>
            <p:cNvPr id="192" name=""/>
            <p:cNvGrpSpPr/>
            <p:nvPr/>
          </p:nvGrpSpPr>
          <p:grpSpPr>
            <a:xfrm>
              <a:off x="250920" y="1916280"/>
              <a:ext cx="3600360" cy="1860480"/>
              <a:chOff x="250920" y="1916280"/>
              <a:chExt cx="3600360" cy="186048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611280" y="2205000"/>
                <a:ext cx="3240000" cy="1296720"/>
                <a:chOff x="611280" y="2205000"/>
                <a:chExt cx="3240000" cy="1296720"/>
              </a:xfrm>
            </p:grpSpPr>
            <p:grpSp>
              <p:nvGrpSpPr>
                <p:cNvPr id="194" name=""/>
                <p:cNvGrpSpPr/>
                <p:nvPr/>
              </p:nvGrpSpPr>
              <p:grpSpPr>
                <a:xfrm>
                  <a:off x="611280" y="2205000"/>
                  <a:ext cx="3240000" cy="1296720"/>
                  <a:chOff x="611280" y="2205000"/>
                  <a:chExt cx="3240000" cy="1296720"/>
                </a:xfrm>
              </p:grpSpPr>
              <p:sp>
                <p:nvSpPr>
                  <p:cNvPr id="195" name=""/>
                  <p:cNvSpPr/>
                  <p:nvPr/>
                </p:nvSpPr>
                <p:spPr>
                  <a:xfrm flipV="1">
                    <a:off x="611280" y="2205000"/>
                    <a:ext cx="0" cy="1296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611280" y="3501720"/>
                    <a:ext cx="32400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7" name=""/>
                <p:cNvSpPr/>
                <p:nvPr/>
              </p:nvSpPr>
              <p:spPr>
                <a:xfrm>
                  <a:off x="611280" y="2349360"/>
                  <a:ext cx="3168720" cy="1152360"/>
                </a:xfrm>
                <a:custGeom>
                  <a:avLst/>
                  <a:gdLst/>
                  <a:ahLst/>
                  <a:rect l="l" t="t" r="r" b="b"/>
                  <a:pathLst>
                    <a:path w="1996" h="726">
                      <a:moveTo>
                        <a:pt x="0" y="726"/>
                      </a:moveTo>
                      <a:cubicBezTo>
                        <a:pt x="128" y="363"/>
                        <a:pt x="257" y="0"/>
                        <a:pt x="590" y="0"/>
                      </a:cubicBezTo>
                      <a:cubicBezTo>
                        <a:pt x="923" y="0"/>
                        <a:pt x="1459" y="363"/>
                        <a:pt x="1996" y="726"/>
                      </a:cubicBezTo>
                    </a:path>
                  </a:pathLst>
                </a:custGeom>
                <a:noFill/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" name=""/>
              <p:cNvSpPr/>
              <p:nvPr/>
            </p:nvSpPr>
            <p:spPr>
              <a:xfrm>
                <a:off x="1547640" y="3500280"/>
                <a:ext cx="1081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ahoma"/>
                  </a:rPr>
                  <a:t>connex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50920" y="1916280"/>
                <a:ext cx="79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ahoma"/>
                  </a:rPr>
                  <a:t>vites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4859280" y="1916280"/>
              <a:ext cx="3600360" cy="1860480"/>
              <a:chOff x="4859280" y="1916280"/>
              <a:chExt cx="3600360" cy="18604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5219640" y="2205000"/>
                <a:ext cx="3240000" cy="1296720"/>
                <a:chOff x="5219640" y="2205000"/>
                <a:chExt cx="3240000" cy="1296720"/>
              </a:xfrm>
            </p:grpSpPr>
            <p:grpSp>
              <p:nvGrpSpPr>
                <p:cNvPr id="202" name=""/>
                <p:cNvGrpSpPr/>
                <p:nvPr/>
              </p:nvGrpSpPr>
              <p:grpSpPr>
                <a:xfrm>
                  <a:off x="5219640" y="2205000"/>
                  <a:ext cx="3240000" cy="1296720"/>
                  <a:chOff x="5219640" y="2205000"/>
                  <a:chExt cx="3240000" cy="1296720"/>
                </a:xfrm>
              </p:grpSpPr>
              <p:sp>
                <p:nvSpPr>
                  <p:cNvPr id="203" name=""/>
                  <p:cNvSpPr/>
                  <p:nvPr/>
                </p:nvSpPr>
                <p:spPr>
                  <a:xfrm flipV="1">
                    <a:off x="5219640" y="2205000"/>
                    <a:ext cx="0" cy="129672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5219640" y="3501720"/>
                    <a:ext cx="32400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" name=""/>
                <p:cNvSpPr/>
                <p:nvPr/>
              </p:nvSpPr>
              <p:spPr>
                <a:xfrm>
                  <a:off x="5219640" y="2349360"/>
                  <a:ext cx="2544840" cy="1152360"/>
                </a:xfrm>
                <a:custGeom>
                  <a:avLst/>
                  <a:gdLst/>
                  <a:ahLst/>
                  <a:rect l="l" t="t" r="r" b="b"/>
                  <a:pathLst>
                    <a:path w="1603" h="726">
                      <a:moveTo>
                        <a:pt x="0" y="0"/>
                      </a:moveTo>
                      <a:lnTo>
                        <a:pt x="1270" y="272"/>
                      </a:lnTo>
                      <a:cubicBezTo>
                        <a:pt x="1535" y="393"/>
                        <a:pt x="1603" y="658"/>
                        <a:pt x="1588" y="726"/>
                      </a:cubicBezTo>
                    </a:path>
                  </a:pathLst>
                </a:custGeom>
                <a:noFill/>
                <a:ln w="28440">
                  <a:solidFill>
                    <a:srgbClr val="3333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6084720" y="3500280"/>
                <a:ext cx="1081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ahoma"/>
                  </a:rPr>
                  <a:t>connex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859280" y="1916280"/>
                <a:ext cx="792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Tahoma"/>
                  </a:rPr>
                  <a:t>vites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U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Java/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XML/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Les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395280" y="1268280"/>
            <a:ext cx="3959280" cy="541440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html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title&gt;</a:t>
            </a:r>
            <a:r>
              <a:rPr b="1" lang="fr-FR" sz="1300" spc="-1" strike="noStrike">
                <a:solidFill>
                  <a:srgbClr val="ff0000"/>
                </a:solidFill>
                <a:latin typeface="Tahoma"/>
              </a:rPr>
              <a:t>Page d'accueil</a:t>
            </a: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/titl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body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h1&gt;</a:t>
            </a:r>
            <a:r>
              <a:rPr b="1" lang="fr-FR" sz="1300" spc="-1" strike="noStrike">
                <a:solidFill>
                  <a:srgbClr val="ff0000"/>
                </a:solidFill>
                <a:latin typeface="Tahoma"/>
              </a:rPr>
              <a:t>Bienvenue sur mon site</a:t>
            </a: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/h1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table border="0"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   </a:t>
            </a: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t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      </a:t>
            </a: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td&gt;</a:t>
            </a:r>
            <a:r>
              <a:rPr b="1" lang="fr-FR" sz="1300" spc="-1" strike="noStrike">
                <a:solidFill>
                  <a:srgbClr val="ff0000"/>
                </a:solidFill>
                <a:latin typeface="Tahoma"/>
              </a:rPr>
              <a:t>Element 1</a:t>
            </a: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/td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td&gt;</a:t>
            </a:r>
            <a:r>
              <a:rPr b="1" lang="fr-FR" sz="1300" spc="-1" strike="noStrike">
                <a:solidFill>
                  <a:srgbClr val="ff0000"/>
                </a:solidFill>
                <a:latin typeface="Tahoma"/>
              </a:rPr>
              <a:t>Valeur 1</a:t>
            </a: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/td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/t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   </a:t>
            </a: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t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      </a:t>
            </a: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td&gt;</a:t>
            </a:r>
            <a:r>
              <a:rPr b="1" lang="fr-FR" sz="1300" spc="-1" strike="noStrike">
                <a:solidFill>
                  <a:srgbClr val="ff0000"/>
                </a:solidFill>
                <a:latin typeface="Tahoma"/>
              </a:rPr>
              <a:t>Element 2</a:t>
            </a: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/td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td&gt;</a:t>
            </a:r>
            <a:r>
              <a:rPr b="1" lang="fr-FR" sz="1300" spc="-1" strike="noStrike">
                <a:solidFill>
                  <a:srgbClr val="ff0000"/>
                </a:solidFill>
                <a:latin typeface="Tahoma"/>
              </a:rPr>
              <a:t>Valeur 2</a:t>
            </a: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/td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   </a:t>
            </a: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/t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/tabl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/body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9966ff"/>
                </a:solidFill>
                <a:latin typeface="Tahoma"/>
              </a:rPr>
              <a:t>&lt;/html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U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Java/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XML/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Les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395280" y="1268280"/>
            <a:ext cx="5040360" cy="270252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?xml version="1.0" encoding="ISO-8859-1 ?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0000"/>
                </a:solidFill>
                <a:latin typeface="Tahoma"/>
              </a:rPr>
              <a:t>&lt;pag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fr-FR" sz="1300" spc="-1" strike="noStrike">
                <a:solidFill>
                  <a:srgbClr val="ff0000"/>
                </a:solidFill>
                <a:latin typeface="Tahoma"/>
              </a:rPr>
              <a:t>&lt;titre value="Page d'accueil" /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fr-FR" sz="1300" spc="-1" strike="noStrike">
                <a:solidFill>
                  <a:srgbClr val="ff0000"/>
                </a:solidFill>
                <a:latin typeface="Tahoma"/>
              </a:rPr>
              <a:t>&lt;entete value="Bienvenue sur mon site" /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fr-FR" sz="1300" spc="-1" strike="noStrike">
                <a:solidFill>
                  <a:srgbClr val="ff0000"/>
                </a:solidFill>
                <a:latin typeface="Tahoma"/>
              </a:rPr>
              <a:t>&lt;elements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fr-FR" sz="1300" spc="-1" strike="noStrike">
                <a:solidFill>
                  <a:srgbClr val="ff0000"/>
                </a:solidFill>
                <a:latin typeface="Tahoma"/>
              </a:rPr>
              <a:t>&lt;element name="Element 1" value="Valeur 1" /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1" lang="fr-FR" sz="1300" spc="-1" strike="noStrike">
                <a:solidFill>
                  <a:srgbClr val="ff0000"/>
                </a:solidFill>
                <a:latin typeface="Tahoma"/>
              </a:rPr>
              <a:t>&lt;element name="Element 2" value="Valeur 2" /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fr-FR" sz="1300" spc="-1" strike="noStrike">
                <a:solidFill>
                  <a:srgbClr val="ff0000"/>
                </a:solidFill>
                <a:latin typeface="Tahoma"/>
              </a:rPr>
              <a:t>&lt;/elements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ff0000"/>
                </a:solidFill>
                <a:latin typeface="Tahoma"/>
              </a:rPr>
              <a:t>&lt;/pag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U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Les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Java/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XML/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95280" y="1268280"/>
            <a:ext cx="8424720" cy="510408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?xml version="1.0" encoding="ISO-8859-1 ?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xsl:stylesheet version="1.0" xmlns="http://www.w3.org/1999/XSL/Transform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&lt;xsl:template match="page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   </a:t>
            </a: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&lt;html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   </a:t>
            </a: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&lt;hea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   </a:t>
            </a: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&lt;title&gt;&lt;xsl:value-of select="./titre/@value" /&gt;&lt;/titl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   </a:t>
            </a: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&lt;/head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   </a:t>
            </a: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&lt;bod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   </a:t>
            </a: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&lt;h1&gt;&lt;xsl:value-of select="./entete/@value" /&gt;&lt;/h1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   </a:t>
            </a: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&lt;tabl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      </a:t>
            </a: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&lt;xsl:apply-templates select="./elements/element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&lt;/tabl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&lt;/body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&lt;/html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&lt;/xsl:templa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&lt;xsl:template match="element"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   </a:t>
            </a: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&lt;tr&gt;&lt;td&gt;&lt;xsl:value-of select="./@name" /&gt;&lt;/td&gt;&lt;td&gt;&lt;xsl:value-of select="./@name" /&gt;&lt;/td&gt;&lt;/t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9966ff"/>
                </a:solidFill>
                <a:latin typeface="Tahoma"/>
              </a:rPr>
              <a:t>&lt;/xsl:templat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xsl:stylesheet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U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Les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Java/PH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XML/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uite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bissler</cp:lastModifiedBy>
  <dcterms:modified xsi:type="dcterms:W3CDTF">2005-10-21T12:08:57Z</dcterms:modified>
  <cp:revision>33</cp:revision>
  <dc:subject/>
  <dc:title>PowerPoint Presentation</dc:title>
</cp:coreProperties>
</file>